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B59-8813-4568-BE05-04C16A8C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FCE8-611A-4031-85F0-549B992C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5CC-79DD-4152-959C-015F1053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DA7-1ED2-486F-A0D8-616A5678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4F86-F7E8-4428-8C74-9BE15CAF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1BE-20E9-4761-B278-F24C1588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1A7D-C600-4AEB-999C-64D28D5D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243C-8E94-40FD-BE62-40B1E8DC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9AD5-47DA-4DE1-8947-B9CA4641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350F-05A6-489C-9ED5-8D370DA0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C980-34C4-4CDC-BF91-FDFE42D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3B69-BABF-455F-896E-3C59F8DB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5998-9D8F-4A09-83B4-273D1394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6D2-DF20-4AB7-A84C-19E1FE7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4CE8-873A-490F-B87F-5EE20CD8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87FA-BC3F-4DD8-9B07-3D22FD0B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CCD3-2D14-4A9B-87A0-C17704C2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968-3B76-4B96-825B-A247A21D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AA7-B5C8-4EC1-8774-53B82873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D08-2803-4A39-A1A8-533DB70F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7472-742E-475B-B98C-8DA61E17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929-47D3-4C2E-8F3A-EC7A2A1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0BD-F227-4438-BBF3-0E947D15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5F9-1AC1-471B-9DFB-28068CEE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E76-EC1B-46C1-914D-9BA7E0B1E85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E054-56E5-4D2D-B6EF-0EC7909447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 rot="21081600">
            <a:off x="0" y="836280"/>
            <a:ext cx="9151920" cy="22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cc"/>
                    </a:gs>
                  </a:gsLst>
                  <a:lin ang="5916000"/>
                </a:gradFill>
                <a:latin typeface="Tahoma"/>
              </a:rPr>
              <a:t>Архитектура, скульптура и живопись 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cc"/>
                  </a:gs>
                </a:gsLst>
                <a:lin ang="5916000"/>
              </a:gra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66cc"/>
                    </a:gs>
                  </a:gsLst>
                  <a:lin ang="5916000"/>
                </a:gradFill>
                <a:latin typeface="Tahoma"/>
              </a:rPr>
              <a:t>второй половины XIX века 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66cc"/>
                  </a:gs>
                </a:gsLst>
                <a:lin ang="5916000"/>
              </a:gradFill>
              <a:latin typeface="Tahoma"/>
              <a:ea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920" y="4581360"/>
            <a:ext cx="70866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полнили: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олотова Ольга &amp; Хасанова Евгени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812000" y="4365720"/>
            <a:ext cx="1511280" cy="1439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55640" y="2997360"/>
            <a:ext cx="745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Шишкин Иван"/>
          <p:cNvPicPr/>
          <p:nvPr/>
        </p:nvPicPr>
        <p:blipFill>
          <a:blip r:embed="rId1"/>
          <a:stretch/>
        </p:blipFill>
        <p:spPr>
          <a:xfrm>
            <a:off x="900000" y="620640"/>
            <a:ext cx="1800360" cy="187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50920" y="2637000"/>
            <a:ext cx="381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cc"/>
                </a:solidFill>
                <a:latin typeface="Agency FB"/>
              </a:rPr>
              <a:t>Иван Иванович Шишкин</a:t>
            </a: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 (1832- 1898) – певец русского леса, эпической широты русской природы. Шишкин – мастер </a:t>
            </a:r>
            <a:r>
              <a:rPr b="1" i="1" lang="ru-RU" sz="2400" spc="-1" strike="noStrike">
                <a:solidFill>
                  <a:srgbClr val="ff6699"/>
                </a:solidFill>
                <a:latin typeface="Agency FB"/>
              </a:rPr>
              <a:t>монументальных полотен</a:t>
            </a: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 с широко развернутыми, панорамными вид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Шишкин Иван. Срубленное дерево. Эксклюзивный заказ постера"/>
          <p:cNvPicPr/>
          <p:nvPr/>
        </p:nvPicPr>
        <p:blipFill>
          <a:blip r:embed="rId2"/>
          <a:stretch/>
        </p:blipFill>
        <p:spPr>
          <a:xfrm>
            <a:off x="4211640" y="2421000"/>
            <a:ext cx="2160720" cy="165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5" name="" descr="Шишкин Иван. На севере диком... Эксклюзивный заказ постера"/>
          <p:cNvPicPr/>
          <p:nvPr/>
        </p:nvPicPr>
        <p:blipFill>
          <a:blip r:embed="rId3"/>
          <a:stretch/>
        </p:blipFill>
        <p:spPr>
          <a:xfrm>
            <a:off x="7020000" y="404640"/>
            <a:ext cx="1655640" cy="20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" descr="Шишкин Иван. Святой ключ близ Елабуги. Эксклюзивный заказ постера"/>
          <p:cNvPicPr/>
          <p:nvPr/>
        </p:nvPicPr>
        <p:blipFill>
          <a:blip r:embed="rId4"/>
          <a:stretch/>
        </p:blipFill>
        <p:spPr>
          <a:xfrm>
            <a:off x="7020000" y="3789360"/>
            <a:ext cx="1655640" cy="203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7" name=""/>
          <p:cNvSpPr/>
          <p:nvPr/>
        </p:nvSpPr>
        <p:spPr>
          <a:xfrm>
            <a:off x="6659640" y="2492280"/>
            <a:ext cx="22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На севере дик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5950080"/>
            <a:ext cx="33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Святой ключ близ Елабуг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1497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Срубленное дере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04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54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39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Перов Василий"/>
          <p:cNvPicPr/>
          <p:nvPr/>
        </p:nvPicPr>
        <p:blipFill>
          <a:blip r:embed="rId1"/>
          <a:stretch/>
        </p:blipFill>
        <p:spPr>
          <a:xfrm>
            <a:off x="1403280" y="260280"/>
            <a:ext cx="1336680" cy="16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250920" y="1989000"/>
            <a:ext cx="489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9ffcc"/>
                </a:solidFill>
                <a:latin typeface="Agency FB"/>
              </a:rPr>
              <a:t>Перов Василий Григорьевич</a:t>
            </a:r>
            <a:r>
              <a:rPr b="1" i="1" lang="ru-RU" sz="2200" spc="-1" strike="noStrike">
                <a:solidFill>
                  <a:srgbClr val="ffffff"/>
                </a:solidFill>
                <a:latin typeface="Agency FB"/>
              </a:rPr>
              <a:t> (1833/34-1882) –мастер </a:t>
            </a:r>
            <a:r>
              <a:rPr b="1" i="1" lang="ru-RU" sz="2200" spc="-1" strike="noStrike">
                <a:solidFill>
                  <a:srgbClr val="ff6699"/>
                </a:solidFill>
                <a:latin typeface="Agency FB"/>
              </a:rPr>
              <a:t>бытовой живописи, портретист, исторический живописец.</a:t>
            </a:r>
            <a:r>
              <a:rPr b="1" i="1" lang="ru-RU" sz="2200" spc="-1" strike="noStrike">
                <a:solidFill>
                  <a:srgbClr val="ffffff"/>
                </a:solidFill>
                <a:latin typeface="Agency FB"/>
              </a:rPr>
              <a:t> Перов вошел в историю искусства как лидер критического направления в русской бытовой живописи 1860-х, сочетавший в своем творчестве сочувствие «униженным и оскорбленным» и гневный пафос сатирического обличия власть имущих.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Перов Василий. Охотники на привале. Репродукция B2"/>
          <p:cNvPicPr/>
          <p:nvPr/>
        </p:nvPicPr>
        <p:blipFill>
          <a:blip r:embed="rId2"/>
          <a:stretch/>
        </p:blipFill>
        <p:spPr>
          <a:xfrm>
            <a:off x="6227640" y="549360"/>
            <a:ext cx="2233800" cy="1584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03" name="" descr="Перов Василий. Портрет писателя Ф.М.  Достоевского. Репродукция B3"/>
          <p:cNvPicPr/>
          <p:nvPr/>
        </p:nvPicPr>
        <p:blipFill>
          <a:blip r:embed="rId3"/>
          <a:stretch/>
        </p:blipFill>
        <p:spPr>
          <a:xfrm>
            <a:off x="6300720" y="3141720"/>
            <a:ext cx="2232000" cy="237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6156360" y="213372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Охотники на привал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5661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Портрет Достоев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52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302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Саврасов Алексей"/>
          <p:cNvPicPr/>
          <p:nvPr/>
        </p:nvPicPr>
        <p:blipFill>
          <a:blip r:embed="rId1"/>
          <a:stretch/>
        </p:blipFill>
        <p:spPr>
          <a:xfrm>
            <a:off x="1692360" y="1052640"/>
            <a:ext cx="1332000" cy="1800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468360" y="234936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924280"/>
            <a:ext cx="47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cc"/>
                </a:solidFill>
                <a:latin typeface="Agency FB"/>
              </a:rPr>
              <a:t>Саврасов Алексей Кондратьевич</a:t>
            </a: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 (1830-1897) – русский живописец, рисовальщик, </a:t>
            </a:r>
            <a:r>
              <a:rPr b="1" i="1" lang="ru-RU" sz="2400" spc="-1" strike="noStrike">
                <a:solidFill>
                  <a:srgbClr val="ff6699"/>
                </a:solidFill>
                <a:latin typeface="Agency FB"/>
              </a:rPr>
              <a:t>пейзажист.</a:t>
            </a: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 Сумел показать красоту и тонкий лиризм простого русского пейзаж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Саврасов Алексей. Грачи прилетели. Эксклюзивный заказ постера"/>
          <p:cNvPicPr/>
          <p:nvPr/>
        </p:nvPicPr>
        <p:blipFill>
          <a:blip r:embed="rId2"/>
          <a:stretch/>
        </p:blipFill>
        <p:spPr>
          <a:xfrm>
            <a:off x="6227640" y="549360"/>
            <a:ext cx="1649520" cy="20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" descr="Саврасов Алексей. Пейзаж с сосной. Эксклюзивный заказ постера"/>
          <p:cNvPicPr/>
          <p:nvPr/>
        </p:nvPicPr>
        <p:blipFill>
          <a:blip r:embed="rId3"/>
          <a:stretch/>
        </p:blipFill>
        <p:spPr>
          <a:xfrm>
            <a:off x="5940360" y="3573360"/>
            <a:ext cx="2519280" cy="1865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5651640" y="263700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Грачи прилетел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445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Пейзаж с сосной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44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94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6ccff"/>
                </a:solidFill>
                <a:latin typeface="Arial"/>
              </a:rPr>
              <a:t>План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ccff"/>
                </a:solidFill>
                <a:latin typeface="Agency FB"/>
              </a:rPr>
              <a:t>Архитект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ff"/>
                </a:solidFill>
                <a:latin typeface="Agency FB"/>
              </a:rPr>
              <a:t>         </a:t>
            </a: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1. Основные черты  «Русского стил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         </a:t>
            </a: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2. Наглядные приме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ccff"/>
                </a:solidFill>
                <a:latin typeface="Agency FB"/>
              </a:rPr>
              <a:t>Скульптур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ccff"/>
                </a:solidFill>
                <a:latin typeface="Agency FB"/>
              </a:rPr>
              <a:t>Живопись эпохи «передвижников»</a:t>
            </a:r>
            <a:r>
              <a:rPr b="0" lang="ru-RU" sz="3200" spc="-1" strike="noStrike">
                <a:solidFill>
                  <a:srgbClr val="6666ff"/>
                </a:solidFill>
                <a:latin typeface="Agency F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ff"/>
                </a:solidFill>
                <a:latin typeface="Agency FB"/>
              </a:rPr>
              <a:t>         </a:t>
            </a: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1. Характеристика творчества                                                                                        «передвижников»</a:t>
            </a:r>
            <a:r>
              <a:rPr b="0" i="1" lang="en-US" sz="2800" spc="-1" strike="noStrike">
                <a:solidFill>
                  <a:srgbClr val="66ffff"/>
                </a:solidFill>
                <a:latin typeface="Agency FB"/>
              </a:rPr>
              <a:t>, </a:t>
            </a: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общие чер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         </a:t>
            </a:r>
            <a:r>
              <a:rPr b="0" i="1" lang="ru-RU" sz="2800" spc="-1" strike="noStrike">
                <a:solidFill>
                  <a:srgbClr val="66ffff"/>
                </a:solidFill>
                <a:latin typeface="Agency FB"/>
              </a:rPr>
              <a:t>2. Образование Третьяковской галер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"/>
                            </p:stCondLst>
                            <p:childTnLst>
                              <p:par>
                                <p:cTn id="2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890"/>
                            </p:stCondLst>
                            <p:childTnLst>
                              <p:par>
                                <p:cTn id="4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890"/>
                            </p:stCondLst>
                            <p:childTnLst>
                              <p:par>
                                <p:cTn id="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89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ff66"/>
                </a:solidFill>
                <a:latin typeface="Arial"/>
              </a:rPr>
              <a:t>Основные черты «Русского стиля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gency FB"/>
              </a:rPr>
              <a:t> </a:t>
            </a:r>
            <a:r>
              <a:rPr b="1" i="1" lang="ru-RU" sz="1900" spc="-1" strike="noStrike">
                <a:solidFill>
                  <a:srgbClr val="ffffff"/>
                </a:solidFill>
                <a:latin typeface="Agency FB"/>
              </a:rPr>
              <a:t>«Русский стиль» стал применяться при строительстве не только храмов, но и светских сооружени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99cc"/>
                </a:solidFill>
                <a:latin typeface="Agency FB"/>
              </a:rPr>
              <a:t>  </a:t>
            </a:r>
            <a:r>
              <a:rPr b="1" i="1" lang="ru-RU" sz="1900" spc="-1" strike="noStrike">
                <a:solidFill>
                  <a:srgbClr val="ff99cc"/>
                </a:solidFill>
                <a:latin typeface="Agency FB"/>
              </a:rPr>
              <a:t>Широко использовались</a:t>
            </a:r>
            <a:r>
              <a:rPr b="1" i="1" lang="ru-RU" sz="19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     </a:t>
            </a: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башенки,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     </a:t>
            </a: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резные наличники,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     </a:t>
            </a: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бочкообразные столбик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     </a:t>
            </a:r>
            <a:r>
              <a:rPr b="1" i="1" lang="ru-RU" sz="1900" spc="-1" strike="noStrike">
                <a:solidFill>
                  <a:srgbClr val="66ff99"/>
                </a:solidFill>
                <a:latin typeface="Agency FB"/>
              </a:rPr>
              <a:t>и другие элементы         деревянного зодчества.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gency FB"/>
              </a:rPr>
              <a:t>  </a:t>
            </a:r>
            <a:r>
              <a:rPr b="1" i="1" lang="ru-RU" sz="1900" spc="-1" strike="noStrike">
                <a:solidFill>
                  <a:srgbClr val="ffffff"/>
                </a:solidFill>
                <a:latin typeface="Agency FB"/>
              </a:rPr>
              <a:t>В дереве все это смотрелось очень легко, в каменном же исполнении приводило к созданию очень тяжелых архитектурных форм. В таком стиле был построен Политехнический музей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Государственный политехническтй музей"/>
          <p:cNvPicPr/>
          <p:nvPr/>
        </p:nvPicPr>
        <p:blipFill>
          <a:blip r:embed="rId1"/>
          <a:stretch/>
        </p:blipFill>
        <p:spPr>
          <a:xfrm>
            <a:off x="4788000" y="1700280"/>
            <a:ext cx="3240000" cy="417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4572000" y="59500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Политехнический муз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85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4360" y="1149480"/>
          <a:ext cx="467964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49480"/>
                    <a:ext cx="4679640" cy="45115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4240" y="1052640"/>
            <a:ext cx="37497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omic"/>
              </a:rPr>
              <a:t>Основные черты «Русского стиля» проявляются в построенн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0" i="1" lang="ru-RU" sz="3200" spc="-1" strike="noStrike">
                <a:solidFill>
                  <a:srgbClr val="99ffcc"/>
                </a:solidFill>
                <a:latin typeface="comic"/>
              </a:rPr>
              <a:t>А. И. Кракау в</a:t>
            </a:r>
            <a:r>
              <a:rPr b="0" i="1" lang="ru-RU" sz="3200" spc="-1" strike="noStrike">
                <a:solidFill>
                  <a:srgbClr val="ffffff"/>
                </a:solidFill>
                <a:latin typeface="comic"/>
              </a:rPr>
              <a:t> 1857 году </a:t>
            </a:r>
            <a:r>
              <a:rPr b="0" i="1" lang="ru-RU" sz="3200" spc="-1" strike="noStrike">
                <a:solidFill>
                  <a:srgbClr val="ffff00"/>
                </a:solidFill>
                <a:latin typeface="comic"/>
              </a:rPr>
              <a:t>Балтийском вокзал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mic"/>
              </a:rPr>
              <a:t>    </a:t>
            </a:r>
            <a:r>
              <a:rPr b="0" i="1" lang="ru-RU" sz="3200" spc="-1" strike="noStrike">
                <a:solidFill>
                  <a:srgbClr val="ffffff"/>
                </a:solidFill>
                <a:latin typeface="comic"/>
              </a:rPr>
              <a:t>в Петербург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-612720" y="-523080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deb61"/>
                </a:solidFill>
                <a:latin typeface="Arial"/>
              </a:rPr>
              <a:t>Скульптура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В конце 50-х годов 19 века был объявлен конкурс на создание памятника </a:t>
            </a:r>
            <a:r>
              <a:rPr b="0" i="1" lang="ru-RU" sz="2200" spc="-1" strike="noStrike">
                <a:solidFill>
                  <a:srgbClr val="99ffcc"/>
                </a:solidFill>
                <a:latin typeface="Tahoma"/>
              </a:rPr>
              <a:t>«Тысячелетие России».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Победителем этого конкурса стал 25-летний выпускник Академии художеств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99"/>
                </a:solidFill>
                <a:latin typeface="Tahoma"/>
              </a:rPr>
              <a:t>Михаил Осипович Микешин.</a:t>
            </a: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В скульптурных изображениях, опоясывающих сооружении, были запечатлены основные вехи в истории России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ahoma"/>
              </a:rPr>
              <a:t>Всего было отлито 129 скульптурных фигу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Тысячелетие России. Изображает в лицах историю России за 1000 лет (государственные деятели, военные, писатели, ученые - 109 фигур) "/>
          <p:cNvPicPr/>
          <p:nvPr/>
        </p:nvPicPr>
        <p:blipFill>
          <a:blip r:embed="rId1"/>
          <a:stretch/>
        </p:blipFill>
        <p:spPr>
          <a:xfrm>
            <a:off x="5003640" y="1700280"/>
            <a:ext cx="3889440" cy="4392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03640" y="61657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        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Тысячелетие Росс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5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95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45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95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45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95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cc99"/>
                </a:solidFill>
                <a:latin typeface="Arial"/>
              </a:rPr>
              <a:t>Живопись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468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cc"/>
                </a:solidFill>
                <a:latin typeface="Tahoma"/>
              </a:rPr>
              <a:t>«Передвижники» под руководств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ffcc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99ffcc"/>
                </a:solidFill>
                <a:latin typeface="Tahoma"/>
              </a:rPr>
              <a:t>И. Н. Крамского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были едины в своем </a:t>
            </a:r>
            <a:r>
              <a:rPr b="1" i="1" lang="ru-RU" sz="2000" spc="-1" strike="noStrike">
                <a:solidFill>
                  <a:srgbClr val="ff6699"/>
                </a:solidFill>
                <a:latin typeface="Tahoma"/>
              </a:rPr>
              <a:t>неприятии «академизма»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с его мифологией, декоративными пейзажами и напыщенной театральностью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Они хотели изображать </a:t>
            </a:r>
            <a:r>
              <a:rPr b="1" i="1" lang="ru-RU" sz="2000" spc="-1" strike="noStrike">
                <a:solidFill>
                  <a:srgbClr val="ff6699"/>
                </a:solidFill>
                <a:latin typeface="Tahoma"/>
              </a:rPr>
              <a:t>живую жизн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3860640"/>
            <a:ext cx="5545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ff"/>
                </a:solidFill>
                <a:latin typeface="Tahoma"/>
              </a:rPr>
              <a:t>Особой симпатией «передвижников» пользовалось крестьянство.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 Они показывали его нужду, страдания, угнетенное полож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ahoma"/>
              </a:rPr>
              <a:t>«Передвижники» совершили подлинные открытия в пейзажной живопис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35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85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35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ff66"/>
                </a:solidFill>
                <a:latin typeface="Agency FB"/>
              </a:rPr>
              <a:t>Основные произведения художников эпохи «передвижников»</a:t>
            </a:r>
            <a:endParaRPr b="0" lang="en-US" sz="3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0388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99ffcc"/>
                </a:solidFill>
                <a:latin typeface="Agency FB"/>
              </a:rPr>
              <a:t>Илья Ефимович Репин        </a:t>
            </a:r>
            <a:r>
              <a:rPr b="1" i="1" lang="ru-RU" sz="1900" spc="-1" strike="noStrike">
                <a:solidFill>
                  <a:srgbClr val="ffffff"/>
                </a:solidFill>
                <a:latin typeface="Agency FB"/>
              </a:rPr>
              <a:t>(1844-1930) родился в городе Чугуеве, в семье военного поселенца. Он поступил в Академию художеств, где его учителем стал П. П. Чистяков. Репин был очень </a:t>
            </a:r>
            <a:r>
              <a:rPr b="1" i="1" lang="ru-RU" sz="1900" spc="-1" strike="noStrike">
                <a:solidFill>
                  <a:srgbClr val="ff6699"/>
                </a:solidFill>
                <a:latin typeface="Agency FB"/>
              </a:rPr>
              <a:t>разносторонним художником.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Agency FB"/>
              </a:rPr>
              <a:t>Из-под его кисти выходили</a:t>
            </a:r>
            <a:r>
              <a:rPr b="1" i="1" lang="ru-RU" sz="1900" spc="-1" strike="noStrike">
                <a:solidFill>
                  <a:srgbClr val="ff6699"/>
                </a:solidFill>
                <a:latin typeface="Agency FB"/>
              </a:rPr>
              <a:t> жанровые, исторические полотна, портре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Репин Илья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484280"/>
            <a:ext cx="1584360" cy="1735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5" name="" descr="Репин Илья. Бурлаки, идущие вброд. Эксклюзивный заказ постера"/>
          <p:cNvPicPr/>
          <p:nvPr/>
        </p:nvPicPr>
        <p:blipFill>
          <a:blip r:embed="rId2"/>
          <a:stretch/>
        </p:blipFill>
        <p:spPr>
          <a:xfrm>
            <a:off x="5651640" y="1700280"/>
            <a:ext cx="2736720" cy="17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6" name="" descr="Репин Илья. Иван Грозный и сын его Иван 16 ноября 1581 года. Эксклюзивный заказ постера"/>
          <p:cNvPicPr/>
          <p:nvPr/>
        </p:nvPicPr>
        <p:blipFill>
          <a:blip r:embed="rId3"/>
          <a:stretch/>
        </p:blipFill>
        <p:spPr>
          <a:xfrm>
            <a:off x="5724360" y="4221000"/>
            <a:ext cx="2737080" cy="172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5796000" y="350028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Бурлаки на Волг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6165720"/>
            <a:ext cx="39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Иван Грозный и его сын Иван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45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45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37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377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427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77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27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Левитан Исаак"/>
          <p:cNvPicPr/>
          <p:nvPr/>
        </p:nvPicPr>
        <p:blipFill>
          <a:blip r:embed="rId1"/>
          <a:stretch/>
        </p:blipFill>
        <p:spPr>
          <a:xfrm>
            <a:off x="1116000" y="404640"/>
            <a:ext cx="2232000" cy="18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468360" y="2637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2492280"/>
            <a:ext cx="39592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99ffcc"/>
                </a:solidFill>
                <a:latin typeface="Agency FB"/>
              </a:rPr>
              <a:t>Исаак Ильич Левитан</a:t>
            </a:r>
            <a:r>
              <a:rPr b="1" i="1" lang="ru-RU" sz="2300" spc="-1" strike="noStrike">
                <a:solidFill>
                  <a:srgbClr val="ffffff"/>
                </a:solidFill>
                <a:latin typeface="Agency FB"/>
              </a:rPr>
              <a:t> (1860-1900) – мастер спокойных</a:t>
            </a:r>
            <a:r>
              <a:rPr b="1" i="1" lang="en-US" sz="2300" spc="-1" strike="noStrike">
                <a:solidFill>
                  <a:srgbClr val="ffffff"/>
                </a:solidFill>
                <a:latin typeface="Agency FB"/>
              </a:rPr>
              <a:t>,</a:t>
            </a:r>
            <a:r>
              <a:rPr b="1" i="1" lang="ru-RU" sz="2300" spc="-1" strike="noStrike">
                <a:solidFill>
                  <a:srgbClr val="ffffff"/>
                </a:solidFill>
                <a:latin typeface="Agency FB"/>
              </a:rPr>
              <a:t> тихих пейзажей. Человек очень робкий, стеснительный и ранимый, он умел отдыхать только наедине с природой, проникаясь настроением полюбившегося </a:t>
            </a:r>
            <a:r>
              <a:rPr b="1" i="1" lang="ru-RU" sz="2300" spc="-1" strike="noStrike">
                <a:solidFill>
                  <a:srgbClr val="ff6699"/>
                </a:solidFill>
                <a:latin typeface="Agency FB"/>
              </a:rPr>
              <a:t>пейзаж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Левитан Исаак. Золотая осень. Репродукция B2"/>
          <p:cNvPicPr/>
          <p:nvPr/>
        </p:nvPicPr>
        <p:blipFill>
          <a:blip r:embed="rId2"/>
          <a:stretch/>
        </p:blipFill>
        <p:spPr>
          <a:xfrm>
            <a:off x="5219640" y="692280"/>
            <a:ext cx="2664000" cy="2089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3" name="" descr="Левитан Исаак. После дождя. Плёс. Репродукция B3"/>
          <p:cNvPicPr/>
          <p:nvPr/>
        </p:nvPicPr>
        <p:blipFill>
          <a:blip r:embed="rId3"/>
          <a:stretch/>
        </p:blipFill>
        <p:spPr>
          <a:xfrm>
            <a:off x="5219640" y="3573360"/>
            <a:ext cx="2665440" cy="20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5076720" y="2852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Золотая осен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573408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После дожд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2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7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92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97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Крамской Иван"/>
          <p:cNvPicPr/>
          <p:nvPr/>
        </p:nvPicPr>
        <p:blipFill>
          <a:blip r:embed="rId1"/>
          <a:stretch/>
        </p:blipFill>
        <p:spPr>
          <a:xfrm>
            <a:off x="1187280" y="549360"/>
            <a:ext cx="1656000" cy="1827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324000" y="2492280"/>
            <a:ext cx="4176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cc"/>
                </a:solidFill>
                <a:latin typeface="Agency FB"/>
              </a:rPr>
              <a:t>Иван Николаевич Крамской</a:t>
            </a: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 (1837-1887). В1857 году поступил в Петербургскую Академию художеств. В его творчестве главное место занимала </a:t>
            </a:r>
            <a:r>
              <a:rPr b="1" i="1" lang="ru-RU" sz="2400" spc="-1" strike="noStrike">
                <a:solidFill>
                  <a:srgbClr val="ff6699"/>
                </a:solidFill>
                <a:latin typeface="Agency FB"/>
              </a:rPr>
              <a:t>портретная живопись.</a:t>
            </a: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gency FB"/>
              </a:rPr>
              <a:t>Он запечатлел многих деятелей русско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Крамской Иван. Христос в пустыне. Репродукция B2"/>
          <p:cNvPicPr/>
          <p:nvPr/>
        </p:nvPicPr>
        <p:blipFill>
          <a:blip r:embed="rId2"/>
          <a:stretch/>
        </p:blipFill>
        <p:spPr>
          <a:xfrm>
            <a:off x="5435640" y="3573360"/>
            <a:ext cx="2592360" cy="20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9" name="" descr="Крамской Иван. Неизвестная. Репродукция A4"/>
          <p:cNvPicPr/>
          <p:nvPr/>
        </p:nvPicPr>
        <p:blipFill>
          <a:blip r:embed="rId3"/>
          <a:stretch/>
        </p:blipFill>
        <p:spPr>
          <a:xfrm>
            <a:off x="5435640" y="692280"/>
            <a:ext cx="2592360" cy="199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435640" y="278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000" spc="-1" strike="noStrike">
                <a:solidFill>
                  <a:srgbClr val="ffff00"/>
                </a:solidFill>
                <a:latin typeface="Agency FB"/>
              </a:rPr>
              <a:t>«Неизвестна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573408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gency FB"/>
              </a:rPr>
              <a:t>«Христос в пусты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48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2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7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2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7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8:09:57Z</dcterms:created>
  <dc:creator>Урезкова Наталья</dc:creator>
  <dc:description/>
  <dc:language>en-US</dc:language>
  <cp:lastModifiedBy>Дмитрий</cp:lastModifiedBy>
  <dcterms:modified xsi:type="dcterms:W3CDTF">2008-08-27T14:54:35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