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B55-20E0-4CEC-8044-6932DC60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4B0-B4A8-4D06-B564-5E3651D7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386-2E24-44EC-A386-079DEB39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089-BF02-4062-85A1-12C81315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71D9-43D7-46C9-9138-1F06320A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55C-8F97-4156-8C22-5FDF40A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0484-FDF6-4BC8-98CA-5DDED771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2DE6-A5EF-41B2-8468-3218A2B4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0B4D-4FFC-4B4C-A08B-C95A721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19C-FF83-4DEE-A678-8ECCA7F9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F318-7A45-4439-A6DD-F3FD9FE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BC1-C997-44B6-B633-653312C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3A1-D057-4B2B-A270-30CC6802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457B-580A-44BB-A685-2E771006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96FB-5B75-4754-A166-E7534E33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91C4-2EB8-463F-ACA7-F3431482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9FB7-511A-48F9-AA2E-8536955E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2D8-A571-4A78-AA45-4CB930B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C03-21AA-42E3-9DF2-A615BFB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402-2220-4772-9135-208EC429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7A2-6E4C-455A-897D-4369BD0F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E45-FC2D-4FC7-A1D6-550942F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D44-0E87-4EC3-9CCD-9CF3BF56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2F2-D859-4735-8804-56D1E2F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3F3B-D701-46AA-8EAA-A11D60AB00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248-788E-4BB4-960E-47D8D82166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ЛИГИЯ (от лат. religio — набожность, святыня, предмет культа), мировоззрение и мироощущение, а также соответствующее поведение и специфические действия (культ), основана на вере в существование бога или богов, сверхъестественного. Исторические формы развития религии: племенные, национально-государственные (этнические), мировые (буддизм, христианство, исла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Буддизм</a:t>
            </a:r>
            <a:endParaRPr b="0" lang="en-US" sz="6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00360" y="1557000"/>
            <a:ext cx="42447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УДДИЗМ, одна из трех (наряду схристианством и исламом) мировых религий. Возник в Др. Индии в 6-5 вв. до н. э. Основателем считается Сиддхартха Гаутама (см. Будда). Основные направления: хинаяна и махаяна. Расцвет буддизма в Индии 5 в. до н. э. — нач. 1-го тыс. н. э.; распространился в Юго-Вост. и Центр. Азии, отчасти в Ср. Азии и Сибири, ассимилировав элементы брахманизма, даосизма и др. В Индии к 12 в. растворился в индуизме, сильно повлияв на него. Выступил против свойственного брахманизму преобладания внешних форм религиозной жизни (в т. ч. ритуализма). В центре буддизма — учение о «4-х благородных истинах»: существуют страдание, его причина, состояние освобождения и путь к нем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880000" cy="381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187280" y="6021360"/>
            <a:ext cx="29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туя буд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302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адание и освобождение — субъективные состояния и одновременно некая космическая реальность: страдание — состояние беспокойства, напряженности, эквивалентное желанию, и одновременно пульсация дхарм; освобождение (нирвана) — состояние несвязанности личности с внешним миром и одновременно прекращение волнения дхарм. Буддизм отрицает потусторонность освобождения; в буддизме нет души как неизменной субстанции — человеческое «я» отождествляется с совокупным функционированием определенного набора дхарм, нет противопоставления субъекта и объекта, духа и материи, нет бога как творца и безусловно высшего существа. В ходе развития буддизма в нем постепенно сложились культ Будды и бодхисатв, ритуал, появились сангхи (монашеские общины) и т. 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ддизм никогда не знал ни единой церковной организации (даже в рамках одного государства), ни других централизующих социальных институтов. Единственным общим для всех буддистов правилом является право хранить три Драгоценности (три-ратна): Будду, Дхарму и сангху, — что и передавалось из поколения в поколение практически по всем странам Южной, Восточной и Центральной Азии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635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4360" y="5805360"/>
            <a:ext cx="3743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ийский храм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История распространения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же первые документальные сведения о буддизме, которыми стали выбитые в камне указы императора Ашоки (268-231 до н. э.), объединившего северо-восточную, северную и центральную Индию, свидетельствовали об огромном влиянии Закона Будды на политику государства. Ашока стремился воздействовать и на соседние страны, посылая туда буддийские миссии, в том числе и на далекую Шри-Ланку. Этим же временем датируются и наиболее ранние памятники культового зодчества в буддизме, прежде всего ступы — курганы над останками Будды Шакьямуни, которые раскопаны на территории от долины Ганга до северной окраины империи в Гандхаре (восточная часть современного Афганистана) и которые сохранились благодаря тому, что примерно со 2 в. украшались каменными пьедесталами, барельефами, оградами и становились центрами строительства храмово-монастырских комплек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432240" cy="4032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076720" y="5805360"/>
            <a:ext cx="3200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уя Буд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50920" y="1989000"/>
            <a:ext cx="56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0:37:01Z</dcterms:created>
  <dc:creator>1</dc:creator>
  <dc:description/>
  <dc:language>en-US</dc:language>
  <cp:lastModifiedBy>ученик 3</cp:lastModifiedBy>
  <dcterms:modified xsi:type="dcterms:W3CDTF">2009-10-13T09:44:29Z</dcterms:modified>
  <cp:revision>3</cp:revision>
  <dc:subject/>
  <dc:title>Слайд 1</dc:title>
</cp:coreProperties>
</file>