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2B4-2127-476D-99B0-40ACE9C5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E80-F356-4466-9BBF-F61488FE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767-ED40-4B08-9EFD-EE6AE558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C1F-4989-46CA-BFF2-C4AA0F22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4CD-DCD1-4E8B-B204-250590CC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66A-7427-4112-B228-B5AF1FDE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B34-2028-4F7B-9DBA-A9E8E2E5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CBA-6290-43C0-B684-CD4C60F0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E0B-CB5F-4891-A249-4A0B7AF4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45C-88CA-44C4-9D40-5F005475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AC8-D008-4A03-A5E5-37FF99B2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B27-97EB-43B4-9082-8FBF2B08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1B56-AA7C-407E-A59D-14AF68459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еона́рдо ди сер Пье́ро да Ви́нч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тальянский художник, изобретатель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атом. Родился в 1452 году в горо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чи, но детство прошло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лоренции в доме от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56120" y="1600200"/>
            <a:ext cx="342288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5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85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35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85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35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чало творческого пу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ществует легенда о начале пути великого художника. К отцу Леонардо будто бы обратился крестьянин. Он передал нотариусу круглый щит из фигового дерева и попросил найти художника, способного расписать этот щит. Пьеро не стал искать специалиста и поручил работу сыну. Леонардо решил изобразить нечто «страшное». Он принёс в свою комнату множество «моделей», змей и насекомых причудливого вида, и написал на щите медузу. Ошеломлённый отец после этого отправил Леонардо учиться к лучшему живописцу Тосканы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дреа дель Верроккьо. Так четырнадцатилетний Леонардо очутился в знаменитой художественной мастерской т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87880" y="1268280"/>
            <a:ext cx="3422880" cy="474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ая работа Леонардо да Винчи на картине Верроккьо «Крещ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вестно, что он рисовал голову Иоанна Крест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4556160" cy="543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16360" y="1773360"/>
            <a:ext cx="934920" cy="1008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Милане он делает первую скульптуру – конный портрет отца Лодовика Моро – герцога Франческо Сфорца. О том, как выглядела статуя, даёт представление рисунок Леонардо, поскольку сама статуя была разрушена во время нападения француз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316400" cy="391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516 года да Винчи находится во Франции, куда он отправился по приглашению короля Франциск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Там он жил в королевском замке в Клу, неподалёку от города Амбуаза, где и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мер 2 мая 1519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479760" cy="423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55:56Z</dcterms:created>
  <dc:creator>XTreme</dc:creator>
  <dc:description/>
  <dc:language>en-US</dc:language>
  <cp:lastModifiedBy>XTreme</cp:lastModifiedBy>
  <dcterms:modified xsi:type="dcterms:W3CDTF">2009-12-07T20:59:41Z</dcterms:modified>
  <cp:revision>4</cp:revision>
  <dc:subject/>
  <dc:title>Слайд 1</dc:title>
</cp:coreProperties>
</file>