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AF2-ACC3-4CF7-8767-7F12FE2F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976-FD1C-4776-81FE-F58A567F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E6F-1C83-4BEC-9164-FCCEE83B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440-7858-43A4-BF2F-EAAC787F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764E4-827F-412E-BDBC-68516E4F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E0660-14C0-444E-B697-2739B347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5E5DE-A052-4827-8AC8-F778072A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A4699-4BBA-442F-86C3-932747E8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FCCFF-630D-446A-B484-545A7C67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E2B12-0ACA-422E-8BCF-D5F8DE28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34F68-AF7D-432D-B2C8-5AA48306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E01-5C55-48DC-BB55-52F389DC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491F6-3C17-4584-8287-86DC216D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A36DD-0413-4BEA-A85B-22EC6DBC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73D1E-B581-47DC-BAE5-60F27D56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45884-ABEB-40BB-8C91-12F64175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8CFD9-C82E-449B-AC85-94E636E0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A42-403A-4E62-AA61-4030967D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2EA-9138-45F7-928F-EBE3CA30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864-BFEA-41A1-8FE7-FFF31C5A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BA3-06F5-4B5C-9F03-106CE083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53A-665E-4F62-8BCA-A437722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54F-9EC3-4916-BE14-60731598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68F-69B8-42BB-9C87-7E5612EE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2201-D389-4165-8095-D2105530C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3146-3072-48E8-BCB2-44FFF6EA5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1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ahoma"/>
              </a:rPr>
              <a:t>Начало революционной деятельности В. И. Ульянова (Ленина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68360" y="3886200"/>
            <a:ext cx="784872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Выполнил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Ученицы 11 </a:t>
            </a:r>
            <a:r>
              <a:rPr b="0" lang="en-US" sz="2800" spc="-1" strike="noStrike" baseline="30000">
                <a:solidFill>
                  <a:srgbClr val="00ff00"/>
                </a:solidFill>
                <a:latin typeface="Tahoma"/>
              </a:rPr>
              <a:t>Б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Волкова Ел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Панфилова Ан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Емельянова Екатер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9512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14716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Учеба в университет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енью 1887 года В. Ульянов поступил на юридический факультет Казанского университета, но проучился недолго. В декабре он участвовал в студенческой сходке. Многих, кто был на ней, исключили из университета и выслали из города,  в том числе и первокурсника Ульянов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Со временем исключения из университета и до 1891 года Ульянов не имел определенных занятий. В тяжелое время, чувствуя себя отверженным, он пришел в кружок Федосеева. Марксистское учение сразу привлекло молодого человека. Ему казалось, что оно несет в себе такой заряд, который способен взорвать весь этот несправедливый ми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cc"/>
                </a:solidFill>
                <a:latin typeface="Tahoma"/>
              </a:rPr>
              <a:t>В 1891 году Ульянову разрешили сдавать экзамены экстерном на юридическом факультете Петербургского университета. Получил диплом. Но юридическое образование не отразилось ни на взглядах, ни на сочинениях Ульянов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7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7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ahoma"/>
              </a:rPr>
              <a:t>Участие в деятельности </a:t>
            </a:r>
            <a:br>
              <a:rPr sz="3600"/>
            </a:br>
            <a:r>
              <a:rPr b="0" lang="en-US" sz="3600" spc="-1" strike="noStrike">
                <a:solidFill>
                  <a:srgbClr val="9900cc"/>
                </a:solidFill>
                <a:latin typeface="Tahoma"/>
              </a:rPr>
              <a:t>«Союза борьбы за освобождение рабочего класс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енью 1895 года Ульянов принял участие в создании петербургского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«Союза борьбы за освобождение рабочего класса»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«Союз» стал самой многочисленной из всех прежде существовавших социал-демократических (марксистских) организаций. В его руководство входили </a:t>
            </a:r>
            <a:r>
              <a:rPr b="0" lang="en-US" sz="2000" spc="-1" strike="noStrike">
                <a:solidFill>
                  <a:srgbClr val="33cccc"/>
                </a:solidFill>
                <a:latin typeface="Tahoma"/>
              </a:rPr>
              <a:t>В. И. Ульянов, Г. М. Кржижановский, Н. К. Крупская, Ю. О. Мартов (Цедербаум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друг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105440" cy="2881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859280" y="5229360"/>
            <a:ext cx="38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ahoma"/>
              </a:rPr>
              <a:t>Группа руководящих деятелей петербургского «Союза борьбы за освобождение рабочего класса» во главе с Ленины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1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6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1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562752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Руководящему центру были подчинены районные группы, а им – рабочие кружки. Поддерживались связи с заводами и фабриками. Издавались листовки, готовился первый номер нелегальной газе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Однако в конце  1895 года полиция арестовала 57 членов «Союза», в том числе Ульянова. В 1897 году он был сослан в село Шушенское Есенинской губер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Петербургский «Союз борьбы» продолжал действовать. В 1898 году по его инициативе в Минске представители ряда марксистских кружков(всего 9 человек) объявили о создании Российской социал-демократической рабочей пар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56360" y="765000"/>
            <a:ext cx="2552760" cy="1935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В.И.Ленин в период ареста"/>
          <p:cNvPicPr/>
          <p:nvPr/>
        </p:nvPicPr>
        <p:blipFill>
          <a:blip r:embed="rId3"/>
          <a:stretch/>
        </p:blipFill>
        <p:spPr>
          <a:xfrm>
            <a:off x="6156360" y="3860640"/>
            <a:ext cx="2668680" cy="10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80200" y="2865600"/>
            <a:ext cx="25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80200" y="2793960"/>
            <a:ext cx="24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ahoma"/>
              </a:rPr>
              <a:t>Уголок села Шушенск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08560" y="4952880"/>
            <a:ext cx="261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ahoma"/>
              </a:rPr>
              <a:t>Ленин в период ареста по делу «Союза борьбы по освобождению рабочего класс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00244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Взгляды Ульян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 ходе борьбы с народничеством Ульянов, вольно или невольно позаимствовал многие его черт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Он никогда не скрывал своего восхищения перед народовольцами, перед их организацией, отлаженной и четко действующей. Его мечтой было создание дисциплинированной и сплоченной партии, ведущей за собой миллионную армию пролетариата, которая в свою очередь влечет за собой крестьянство. Народовольцы идейно породнили его с Ткачевым, а через него с Нечаев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Ульянов - Лен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 время ссылки Ульянов написал ряд трудов по экономическим вопросам и теории социал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Работа «Развитие капитализма в России» не утратила научного значения и по сей день.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 1900 году срок ссылки ист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Первые свои публикации Ульянов подписывал псевдонимами «Тулин», «Ильин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В 1901 году он впервые подписался: Н. Ленин. Под именем Ленина он вошел в мировую истор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2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7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2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9:24:22Z</dcterms:created>
  <dc:creator>Администратор</dc:creator>
  <dc:description/>
  <dc:language>en-US</dc:language>
  <cp:lastModifiedBy>Дмитрий</cp:lastModifiedBy>
  <dcterms:modified xsi:type="dcterms:W3CDTF">2005-02-14T12:55:36Z</dcterms:modified>
  <cp:revision>11</cp:revision>
  <dc:subject/>
  <dc:title>Начало революционной деятельности В. И. Ульянова (Ленина).</dc:title>
</cp:coreProperties>
</file>