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1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06A-2901-4A3A-8FF9-32806526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7B6-567D-4957-BEE0-82337DB3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80B-6078-4A4E-9AB5-9A2EF7F6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D7D-E9EF-4497-99A1-471A7078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F83-6B0F-4EEA-8F20-7BB9C383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0BD-8918-4AEA-94F4-DE046A8C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C1C-F9AF-4E63-835A-0CDEAC91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CD4-8E30-49BB-BBAF-8CEA378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50D-64E2-47A1-B1D1-A2DE46FF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035-18E1-407B-AD37-A16BF78D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B50-87C9-483E-9894-17BF42EB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888-0582-477B-9DE1-45AE5826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9514-4517-4BF0-9FE2-0CCFD6922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II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олитический портр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24000" y="3789360"/>
            <a:ext cx="7624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35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Выполнили: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5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Вандышева Мар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5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оролёва Светла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5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Рыж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5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678720"/>
            <a:ext cx="179280" cy="17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664200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65124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Только в одной комнате дома был наведен порядок. Все было вымыто, вычищено. Это была небольшая комната, размером 30-35 кв.м, оклеенная обоями в клеточку, темная; ее единственное окно упиралось в косогор, и тень высокого забора лежала на полу. На окне была установлена тяжелая решетка. Одна из стен - перегородка была усеяна следами от пуль. Стало ясно: здесь расстрелива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Вдоль карнизов на полу - следы от замытой крови. На других стенах комнаты было также множество следов от пуль, следы шли веером по стенам: видимо, люди, которых расстреливали, метались по комна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а полу - вмятины от штыковых ударов (здесь, очевидно, докалывали) и два пулевых отверстия (стреляли в лежащег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К тому времени уже раскопали сад у дома, обследовали пруд, разрыли братские могилы на кладбище, но никаких следов царской семьи не смогли найти. Они исчез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Верховным правителем России - адмиралом А.В.Колчаком для расследования дела царской семьи был назначен следователь по особо важным делам - Николай Алексеевич Соколов. Он повел следствие страстно и фанатично. Уже был расстрелян Колчак, вернулась Советская власть на Урал и в Сибирь, а Соколов продолжал свою работу. С материалами следствия он проделал опасный путь через всю Сибирь на Дальний Восток, затем в Америку. В эмиграции в Париже он продолжал брать показания у уцелевших свидетелей. Он умер от разрыва сердца в 1924 г., продолжая свое высокопрофессиональное расследование. Именно благодаря кропотливому расследованию Н.А.Соколова стали известны страшные подробности расстрела и захоронения царской семьи. Возвратимся к событиям ночи 17 июля</a:t>
            </a: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 1918 г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639756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82120"/>
            <a:ext cx="9144000" cy="59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Юровский выстроил арестованных в два ряда, в первом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вся царская семья, во втором - их слуги. Императрица и наследник сидели на стульях. Правофланговым в первом ряду стоял царь. В затылок ему стоял один из слуг. Перед царем, лицом к лицу стоял Юровский, держа правую руку в кармане брюк, а в левой держал небольшой листок, потом он зачитал приговор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е успел он дочитать последние слова, как царь громко переспросил его: "Как, я не понял?" Юровский прочитал вторично, при последнем слове он моментально выхватил из кармана револьвер и выстрелил в упор в царя. Царь упал навзничь. Царица и дочь Ольга пытались осенить себя крестным знамением, но не усп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Одновременно с выстрелом Юровского раздались выстрелы расстрельной команды. Свалились на пол все остальные десять человек. По лежащим было сделано еще несколько выстрелов. Дым заслонил электрический свет и затруднил дыхание. Стрельба была прекращена, были раскрыты двери комнаты с тем, чтобы дым разошел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Принесли носилки, начали убирать трупы. Первым был вынесен труп царя. Трупы выносили на грузовой автомобиль, находящийся во дворе. Когда клали на носилки одну из дочерей, она закричала и закрыла лицо рукой. Живыми оказались также и другие. Стрелять было уже нельзя, при раскрытых дверях выстрелы могли быть услышаны на улице. Ермаков взял у солдата винтовку со штыком и доколол всех, кто оказался жив. Когда все арестованные уже лежали на полу, истекая кровью, наследник все еще сидел на стуле. Он почему-то долго не падал на пол и оставался еще живым... Его дострелили выстрелом в голову и грудь, и он свалился со стула. С ними вместе была расстреляна и та собачка, которую принесла с собой одна из княже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4000" y="645336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4000" y="48204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После погрузки убиенных на машину около трех часов ночи выехали на место, которое должен был приготовить Ермаков за Верхне-Исетским заводом. Проехав завод, остановились и стали перегружать трупы на пролетки, т.к. далее проехать на машине было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При перегрузке обнаружилось, что на Татьяне, Ольге, Анастасии были надеты особые корсеты. Решено было раздеть трупы догола, но не здесь, а на месте погребения. Но выяснилось, что никто не знает, где намеченная для этого шах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Светало. Юровский послал верховых разыскивать шахту, но никто не нашел. Проехав немного, остановились в полуторах верстах от деревни Коптяки. В лесу отыскали неглубокую шахту с водой. Юровский распорядился раздеть трупы. Когда раздевали одну из княжен, увидели корсет, местами разорванный пулями, в отверстиях были видны бриллианты. Все ценное собрали с трупов, их одежду сожгли, а сами трупы опустили в шахту и забросали гранатами. Закончив операцию и оставив охрану, Юровский уехал с докладом в Уралиспол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18 июля Ермаков снова прибыл на место преступления. Его спустили в шахту на веревке, и он каждого убитого по отдельности привязывал и поднимал наверх. Когда всех вытащили, то разложили дрова, облили керосином, а сами трупы серной кислот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Уже в наше время - в последние годы исследователи нашли останки захоронения царской семьи и современными научными методами подтвердили, что в Коптяковском лесу захоронены члены царской семьи Романовы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632628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78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день расстрела царской семьи 17 июля 1918г. из Уралсовета в Москву Свердлову была направлена телеграмма, в которой говорилось о расстреле "бывшего царя Николая Романова, виновного в бесчисленных кровавых насилиях над русским народом, а семья эвакуирована в надежное место". Об этом же сообщалось 21 июля в извещении Уралсовета в Екатерин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ако, вечером 17 июля в 21 час 15 мин. из Екатеринбурга в Москву была отправлена зашифрованная телеграмма: "Секретно. Совнарком. Горбунову. Сообщите Свердлову, что всю семью постигла та же участь, что и ее главу. Официально семья погибнет при эвакуации. Белобородов. Председатель Уралсовет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июля, на следующий день после убийства царя, в Алапаевске были также жестоко умерщвлены другие члены Дома Романовых: Великая княгиня Елизавета (сестра Александры Федоровны), Великий князь Сергей Михайлович, три сына Великого князя Константина, сын Великого князя Павла. В январе 1919 г. четыре Великих князя, включая Павла, дядю царя и Николая Михайловича, либерального историка, были казнены в Петропавловской креп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им образом, Ленин с необычайной жестокостью расправился со всеми членами Дома Романовых, оставшимися в России из патриотических побуж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сентября 1990 г. Горсовет г.Екатеринбурга принял решение об отводе участка, на котором стоял снесенный дом Ипатьева, Екатеринбургской Епархии. Здесь будет сооружен храм в память о невинно убие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63961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7164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92428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1557360"/>
            <a:ext cx="9144000" cy="136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800000"/>
                </a:solidFill>
                <a:uFillTx/>
                <a:latin typeface="Monotype Corsiva"/>
              </a:rPr>
              <a:t>Наша речь пойдёт о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Николай II,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Император Всероссийский - старший сын Императора Александр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и Императрицы Марии Федоровны. Родился 6 мая 1868 г. в Царском Селе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932360" y="1773360"/>
            <a:ext cx="3495600" cy="431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4572000" y="1557360"/>
            <a:ext cx="4079880" cy="475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1042920" y="6093000"/>
            <a:ext cx="88920" cy="8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900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15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115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15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155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115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115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300" spc="-1" strike="noStrike" u="sng">
                <a:solidFill>
                  <a:srgbClr val="800000"/>
                </a:solidFill>
                <a:uFillTx/>
                <a:latin typeface="Monotype Corsiva"/>
              </a:rPr>
              <a:t>Воспитание и образование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025280"/>
            <a:ext cx="7499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оспитание и образование Николая II проходило под личным руководством его отца на традиционной религиозной основе. Учебные занятия будущего императора велись по тщательно разработанной программе в течение тринадцати лет. Первые 8 лет были посвящены предметам гимназического курса. Особое внимание уделялось изучению политической истории, русской литературы, французского, немецкого и английского языков, которыми Николай Александрович овладел в совершенстве. Следующие пять лет посвящались изучению военного дела, юридических и экономических наук, необходимых для государственного деятеля В программу образования будущего императора входили многочисленные путешествия по различным губерниям России, которые он совершал вместе с отцом. . К 23-м годам своей жизни Николай Романов - высокообразованный молодой человек с широким кругозором, прекрасно знающий историю и литературу и в совершенстве владеющий основными европейскими языками. Блестящее образование сочеталось у него с глубокой религиозностью и знанием духовной литературы, что было нечасто для государственных деятелей того времени. Отец сумел внушить ему беззаветную любовь к России, чувство ответственности за ее судьбу. С детства ему стала близка мысль, что его главное предназначение - следовать российским основам, традициям  и идеалам. Образцом правителя для Николая II был царь Алексей Михайлович (отец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етра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), бережно хранивший традиции старины и самодержавия, как основы могущества и благосостояния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0920" y="6396120"/>
            <a:ext cx="2174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.8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.8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632628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36360" y="-27000"/>
            <a:ext cx="9145440" cy="684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790200"/>
            <a:ext cx="748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Его царствование совпало с быстрым промышленно-экономическим развитием страны. При Николае II Россия потерпела поражение в русско-японской войне 1904-1905 годов, что явилось одной из причин революции 1905-1907 годов, в ходе которой был принят Манифест 17 октября 1905г., разрешавший создание политических партий и учреждавший Государственную думу; начала осуществляться Столыпинская аграрная реформа. В годы правления Николая II в России было создано самое лучшее по тем временам рабочее законодательство, обеспечивающее нормирование рабочего времени, выбор рабочих старост, вознаграждение при несчастных случаях на производстве, обязательное страхование рабочих от болезней, по инвалидности и старости. Император активно содействовал развитию русской культуры, искусства, науки, реформам армии и фл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remove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7,-104,125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587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Monotype Corsiva"/>
              </a:rPr>
              <a:t>Развитие кризиса и рост революционного движени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632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Царствование Николая II совпало с началом бурного развития капитализма и одновременного роста революционного движения в России. Чтобы сохранить самодержавие и, главное, обеспечить дальнейшее развитие и процветание России, императором были приняты меры, обеспечивающие укрепление союза с нарождающимся буржуазным классом и перевода страны на рельсы буржуазной монархии при сохранении политического всевластия самодержавия: учреждена Государственная Дума, проведена аграрная рефор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604360" y="595008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76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356000" y="327672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7559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Конечно, не надо идеализировать личность последнего императора. У него, как и у всякого человека, имелись и положительные и отрицательные черты. Но главное обвинение, которое ему пытаются вынести от имени истории - политическое безволие, в результате которого в России наступил развал российской государственности и крах самодержавной власти. Здесь нужно согласиться с У.Черчиллем и некоторыми другими объективными историками, которые на анализе исторических материалов того времени считают, что в России на начало февраля 1917 г. был только один по настоящему выдающийся государственной деятель, работавший на победу в войне и процветание страны, - это император Николай II. Но он был просто предан. Обвиняющие Николая II в политическом безволии современники и историки считают, что будь на его месте другой человек, с более сильной волей и характером, то история России пошла бы по другому пути. Может быть, но не следует забывать, что даже монарх масштаба Петра I с его сверхчеловеческой энергией и гениальностью в конкретных условиях начала ХХ века вряд ли бы достиг иных результатов. Ведь Петр I жил и действовал в условиях средневекового варварства, и его методы державного управления вовсе не подошли бы к обществу с началами буржуазного парламентар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Арест и убийство царской семь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26828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 9 марта по 14 августа 1917 г. Николай Романов с семьей  живет под арестом в Александровском дворце Царского Села. В Петрограде усиливается революционное движение, и Временное правительство, опасаясь за жизнь царственных арестантов, решает перевести их вглубь России. После долгих дебатов определяют городом их поселения Тобольск. Туда и перевозят семью Романовых. Им разрешают взять из дворца необходимую мебель, личные вещи, а также предложить обслуживающему персоналу по желанию добровольно сопровождать их к месту нового размещения и дальнейшей службы. 17 августа составы прибывают в Тюмень, и на трех судах арестованных перевозят в Тобольск. Семья Романовых размещается в специально отремонтированном к их приезду доме губернатора. Семье разрешили ходить через улицу и бульвар на богослужение в церковь Благовещенья. Режим охраны здесь был гораздо более легкий, чем в Царском Селе. Семья ведет спокойную, размеренную жизнь. В апреле 1918 г. получено разрешение Президиума ВЦИК четвертого созыва о переводе Романовых в Москву с целью проведения суда над ними. 22 апреля 1918 г. колонна в 150 человек с пулеметами выступила из Тобольска до Тюмени. 30 апреля поезд из Тюмени прибыл в Екатерин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682560"/>
            <a:ext cx="7993080" cy="54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В этот роковой день 16 июля 1918 г. Романовы и обсл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легли спать, как обычно, в 22 часа 30 мин. В 23 часа 30 м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в особняк явилось двое особоуполномоченных от Уралсо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Они вручили решение исполкома командиру отряда ох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Ермакову и коменданту дома Юровскому и предложили немедленно приступить к исполнению пригов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Разбуженным членам семьи и персоналу объявляют, что в связи с наступлением белых войск особняк может оказаться под обстрелом, и поэтому в целях безопасности нужно перейти в подвальное помещение. Семеро членов семьи - Николай Александрович, Александра Федоровна, дочери Ольга, Татьяна, Мария и Анастасия и сын Алексей, трое добровольно оставшихся слуг и врач спускаются со второго этажа дома и переходят в угловую полуподвальную комнату. После того, как все вошли и закрыли дверь, Юровский выступил вперед, вынул из кармана лист бумаги и сказал: "Внимание! Оглашается решение Уралсовета..." И как только прозвучали последние слова, раздались выстрелы. Стреляли: член коллегии Уральского ЦК - М.А.Медведев, комендант дома Л.М.Юровский, его помощник Г.А.Никулин, командир охраны П.З.Ермаков и другие рядовые солдаты охраны - мадья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В час ночи 17 июля все было конче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Georgia"/>
                <a:hlinkClick r:id="rId3" action="ppaction://hlinksldjump"/>
              </a:rPr>
              <a:t>Слайд 9,10,11,12,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636264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4000" y="92412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Через 8 дней после убийства Екатеринбург пал под натиском белых, и группа офицеров ворвалась в дом Ипатьева. Во дворе о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бнаружили голодного спаниеля цесаревича, Джоя, блуждавш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 поисках хозяина. Дом был пуст, но его вид был зловещим. Все помещения были сильно замусорены, а печи в комнатах забиты золой от сожженных вещей. В комнате дочерей была пустота. Пустая коробка от конфет, шерстяной плед на окне. Походные кровати великих княжен нашли в комнатах охраны. И никаких ювелирных вещей, никакой одежды в доме. Это "постаралась" охрана. По комнатам и на помойке, где жила охрана, валялось самое драгоценное для семьи - иконы. Остались и книги. И еще было множество пузырьков с лекарствами. В столовой нашли чехол со спинки кровати одной из княжен. Чехол был с кровавым следом обтертых ру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а помойке нашли георгиевскую ленточку, которую царь до последних дней носил на шинели. К этому времени в Ипатьевский дом уже пришел старый царский слуга Чемодуров, освобожденный из тюрьмы. Когда среди разбросанных по дому святых икон Чемодуров увидел образ Фе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овской Божьей матери, старый слуга побледнел. Он знал, что с этой иконой госпожа его живой никогда не рассталась 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4000" y="632628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11:42:58Z</dcterms:created>
  <dc:creator>Вандышева Марина</dc:creator>
  <dc:description/>
  <dc:language>en-US</dc:language>
  <cp:lastModifiedBy>Урезков Дмитрий</cp:lastModifiedBy>
  <dcterms:modified xsi:type="dcterms:W3CDTF">2003-10-04T15:59:13Z</dcterms:modified>
  <cp:revision>14</cp:revision>
  <dc:subject/>
  <dc:title>Николай II - политический портрет</dc:title>
</cp:coreProperties>
</file>