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5C4-87DB-42F7-9D61-84813307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7D5-2906-4AB2-8ADA-44FDBDD4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B5E-1886-4574-BE85-EAEFBD17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16E-35D3-433E-A805-AF9F5CD3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9EEB-D5F4-479E-BB7A-DB5FA3C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F238-1D94-4825-A7DF-37A423E8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DBFB-A83C-4ADE-ACF2-D07E960C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C7C8-4D1C-4BB5-9F1B-B6E6F07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AE20-59AA-482C-BC86-5327C8DB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940B-2E31-40AF-8F62-3D135AD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8C68-70E6-438D-8D4E-592F27C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3FE-C62C-40C5-A746-063F8DB8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8D42-0FEC-4973-BDBA-43FCD74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6BA-B710-4E68-9503-FBA3CB0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2529-3232-43AD-8418-F2085BE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07EA-EC80-4FB4-BBC1-54E40E4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8D2-D0C1-4D28-8E8B-32214C57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6A5-E8EA-49DA-B9F2-07E63AA1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1F7-F8DE-4A10-8EBD-A45D0DCA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ADC-18CD-4E4E-9C5C-DE9116D9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B83-733C-4214-8A5E-F14C96D3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55E-A76E-45F2-8381-94A54DA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104-C243-46AF-A237-48DC845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06D-F11C-4FA3-BBD3-91324A5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166-6747-4F98-A1AF-CA9F356D5CB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00AD-D17A-442D-9A0E-51631DAD40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b17"/>
                </a:solidFill>
                <a:latin typeface="Monotype Corsiva"/>
              </a:rPr>
              <a:t>Образование и наука второй половины 19 века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e442"/>
                </a:solidFill>
                <a:latin typeface="Arial"/>
              </a:rPr>
              <a:t>Выполни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e442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8e442"/>
                </a:solidFill>
                <a:latin typeface="Arial"/>
              </a:rPr>
              <a:t>ученицы 11«б» класс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e442"/>
                </a:solidFill>
                <a:latin typeface="Arial"/>
              </a:rPr>
              <a:t>Кучерова Наталь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e442"/>
                </a:solidFill>
                <a:latin typeface="Arial"/>
              </a:rPr>
              <a:t>Левушева Ирина</a:t>
            </a:r>
            <a:r>
              <a:rPr b="1" lang="ru-RU" sz="2800" spc="-1" strike="noStrike">
                <a:solidFill>
                  <a:srgbClr val="08e4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372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ff"/>
                </a:solidFill>
                <a:latin typeface="Arial"/>
              </a:rPr>
              <a:t>Мировая географическая наука в те годы во многом опиралась на достижения русских исследователей.</a:t>
            </a:r>
            <a:r>
              <a:rPr b="1" i="1" lang="en-US" sz="2800" spc="-1" strike="noStrike">
                <a:solidFill>
                  <a:srgbClr val="92dfee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99ffcc"/>
                </a:solidFill>
                <a:latin typeface="Arial"/>
              </a:rPr>
              <a:t>К концу 19 века завершалась эпоха географических открытий. И только ледяные просторы Арктики и Антарктики все ещё хранили свои тайны. Географическая эпопея последних географических открытий, активное участие в которых принимали русские исследователи, падает на начало ХХ века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bfb17"/>
                </a:solidFill>
                <a:latin typeface="Brush Script MT"/>
              </a:rPr>
              <a:t>После эпохи Освобожд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оявление начального народного образования. Рост числа сельских и городских школ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оявление потребности на специалистов со средним и высшим образование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ост рядов интеллиген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ост книгоиздательского дела, тиражей газет и журнало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Развитие театра, живописи и других искусст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1fb1f"/>
                </a:solidFill>
                <a:latin typeface="CyrillicRibbon"/>
              </a:rPr>
              <a:t>Развитие образования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fb17"/>
                </a:solidFill>
                <a:latin typeface="Arial"/>
              </a:rPr>
              <a:t>Уровень грамот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1268280"/>
          <a:ext cx="6624720" cy="5075280"/>
        </p:xfrm>
        <a:graphic>
          <a:graphicData uri="http://schemas.openxmlformats.org/drawingml/2006/table">
            <a:tbl>
              <a:tblPr/>
              <a:tblGrid>
                <a:gridCol w="3600360"/>
                <a:gridCol w="302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ae0f"/>
                          </a:solidFill>
                          <a:latin typeface="Arial"/>
                        </a:rPr>
                        <a:t>Местность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dae0f"/>
                          </a:solidFill>
                          <a:latin typeface="Arial"/>
                        </a:rPr>
                        <a:t>Доля неграмотных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тербург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за исключением детей до 7 лет) составляла 44%.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оскв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по переписи 1871 г.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убернские и уездные город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0-80%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ревня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00%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fb17"/>
                </a:solidFill>
                <a:latin typeface="Arial"/>
              </a:rPr>
              <a:t>Начало образован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59641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Основой среднего образования стала</a:t>
            </a:r>
            <a:r>
              <a:rPr b="1" i="1" lang="en-US" sz="2400" spc="-1" strike="noStrike">
                <a:solidFill>
                  <a:srgbClr val="f0b854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0b854"/>
                </a:solidFill>
                <a:uFillTx/>
                <a:latin typeface="Arial"/>
              </a:rPr>
              <a:t>классическая гимназ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Наряду с ними существовали </a:t>
            </a:r>
            <a:r>
              <a:rPr b="1" i="1" lang="en-US" sz="2400" spc="-1" strike="noStrike" u="sng">
                <a:solidFill>
                  <a:srgbClr val="f0b854"/>
                </a:solidFill>
                <a:uFillTx/>
                <a:latin typeface="Arial"/>
              </a:rPr>
              <a:t>реальные училища,</a:t>
            </a: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 ориентированные на средние слои населения(их было меньше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Продолжался </a:t>
            </a:r>
            <a:r>
              <a:rPr b="1" i="1" lang="en-US" sz="2400" spc="-1" strike="noStrike" u="sng">
                <a:solidFill>
                  <a:srgbClr val="f0b854"/>
                </a:solidFill>
                <a:uFillTx/>
                <a:latin typeface="Arial"/>
              </a:rPr>
              <a:t>рост высшей школы</a:t>
            </a:r>
            <a:r>
              <a:rPr b="1" i="1" lang="en-US" sz="2400" spc="-1" strike="noStrike">
                <a:solidFill>
                  <a:srgbClr val="f0b854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Высшее техническое образование развивалось гораздо медленнее. </a:t>
            </a:r>
            <a:r>
              <a:rPr b="1" i="1" lang="en-US" sz="2400" spc="-1" strike="noStrike" u="sng">
                <a:solidFill>
                  <a:srgbClr val="f0b854"/>
                </a:solidFill>
                <a:uFillTx/>
                <a:latin typeface="Arial"/>
              </a:rPr>
              <a:t>Развитие высшей школы тормозилось</a:t>
            </a: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0b854"/>
                </a:solidFill>
                <a:uFillTx/>
                <a:latin typeface="Arial"/>
              </a:rPr>
              <a:t>вследствие противоречивой политики</a:t>
            </a:r>
            <a:r>
              <a:rPr b="1" i="1" lang="en-US" sz="2400" spc="-1" strike="noStrike">
                <a:solidFill>
                  <a:srgbClr val="ccffcc"/>
                </a:solidFill>
                <a:latin typeface="Arial"/>
              </a:rPr>
              <a:t> правительств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2305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bfb17"/>
                </a:solidFill>
                <a:latin typeface="Arial"/>
              </a:rPr>
              <a:t>Русская наука во второй половине 19 ве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b854"/>
                </a:solidFill>
                <a:latin typeface="Arial"/>
              </a:rPr>
              <a:t>Большие успехи были достигнуты в области математики и физи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П. Л. Чебыше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крупные  открытия в математическом анализе, теории чисел, теории вероятносте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А. М. Ляпунов. 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– ряд открытий в области математик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А. Г. Столето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ряд исследований в области фотоэлектрических явлений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П. Н. Яблочко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первым осуществил трансформацию переменного тока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А. Н. Лодыгин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изобрел более совершенную лампу накаливани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А. С. Попо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изучал электромагнетизм, изобрёл радио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ff"/>
                </a:solidFill>
                <a:latin typeface="Arial"/>
              </a:rPr>
              <a:t>А. Ф. Можайский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пытался создать самолет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fb17"/>
                </a:solidFill>
                <a:latin typeface="Arial"/>
              </a:rPr>
              <a:t>В химии и биологии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992160" cy="1152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Бутлеров А.М.(12267 байт)"/>
          <p:cNvPicPr/>
          <p:nvPr/>
        </p:nvPicPr>
        <p:blipFill>
          <a:blip r:embed="rId2"/>
          <a:stretch/>
        </p:blipFill>
        <p:spPr>
          <a:xfrm>
            <a:off x="324000" y="476280"/>
            <a:ext cx="877680" cy="122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1044720" cy="116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867280" y="378936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1165320" cy="129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258920" y="907920"/>
            <a:ext cx="5257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Arial"/>
              </a:rPr>
              <a:t>А. М. Бутлеров</a:t>
            </a: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 – разработал теорию химического строени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1700280"/>
            <a:ext cx="5185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Arial"/>
              </a:rPr>
              <a:t>Д. И. Менделеев</a:t>
            </a: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 – открытие периодического закона химических элементов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2924280"/>
            <a:ext cx="597708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Arial"/>
              </a:rPr>
              <a:t>В. В. Докучаев</a:t>
            </a: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 – раскрыл сложный естественноисторический процесс происхождения почв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3280" y="5229360"/>
            <a:ext cx="32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Arial"/>
              </a:rPr>
              <a:t>И. М. Сеченов</a:t>
            </a: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 – открытия в области медицин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4292640"/>
            <a:ext cx="3960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Arial"/>
              </a:rPr>
              <a:t>И. И. Мечников</a:t>
            </a:r>
            <a:r>
              <a:rPr b="1" i="1" lang="en-US" sz="2000" spc="-1" strike="noStrike">
                <a:solidFill>
                  <a:srgbClr val="99ffcc"/>
                </a:solidFill>
                <a:latin typeface="Arial"/>
              </a:rPr>
              <a:t>  - открытия в области микробиологии, бактериологии, медицин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bfb17"/>
                </a:solidFill>
                <a:latin typeface="Arial"/>
              </a:rPr>
              <a:t>В области истор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237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ff"/>
                </a:solidFill>
                <a:latin typeface="Arial"/>
              </a:rPr>
              <a:t>С. М. Соловье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написал «Историю России с древнейших времен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ff"/>
                </a:solidFill>
                <a:latin typeface="Arial"/>
              </a:rPr>
              <a:t>В. О. Ключевский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интересовался социально-экономическими вопрос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ff"/>
                </a:solidFill>
                <a:latin typeface="Arial"/>
              </a:rPr>
              <a:t>М. М. Ковалевский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работал в области всеобщей истор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ff"/>
                </a:solidFill>
                <a:latin typeface="Arial"/>
              </a:rPr>
              <a:t>В. П. Васильев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изучал «Буддизм, его догматы, история и литература»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ff"/>
                </a:solidFill>
                <a:latin typeface="Arial"/>
              </a:rPr>
              <a:t>С. Ф. Ольденбург</a:t>
            </a:r>
            <a:r>
              <a:rPr b="1" i="1" lang="en-US" sz="1800" spc="-1" strike="noStrike">
                <a:solidFill>
                  <a:srgbClr val="99ffcc"/>
                </a:solidFill>
                <a:latin typeface="Arial"/>
              </a:rPr>
              <a:t> – исследования в области религии и культуры  древней и средневековой Индии</a:t>
            </a:r>
            <a:r>
              <a:rPr b="0" i="1" lang="en-US" sz="1800" spc="-1" strike="noStrike">
                <a:solidFill>
                  <a:srgbClr val="99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859280" y="155736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16360" y="4581360"/>
            <a:ext cx="2880000" cy="64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В. О. Ключев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bfb17"/>
                </a:solidFill>
                <a:latin typeface="Arial"/>
              </a:rPr>
              <a:t>Русские географы и путешественн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16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П. П. Семенов-Тян-Шанский</a:t>
            </a: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– проводил экспедиции вглубь Аз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П. А. Кропоткин</a:t>
            </a: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– совершил путешествия по Северной Маньчжурии, Саянам и Витимскому плоскогорью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Н. М. Пржевальский</a:t>
            </a: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– совершил экспедицию по Уссурийскому краю , Затем по районам  Центральной Аз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А. И. Воейков</a:t>
            </a: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– среди его работ «Климаты земного шара, в особенности России»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ff"/>
                </a:solidFill>
                <a:latin typeface="Arial"/>
              </a:rPr>
              <a:t>Н. Н. Миклухо-Маклай</a:t>
            </a:r>
            <a:r>
              <a:rPr b="1" i="1" lang="ru-RU" sz="1800" spc="-1" strike="noStrike">
                <a:solidFill>
                  <a:srgbClr val="99ffcc"/>
                </a:solidFill>
                <a:latin typeface="Arial"/>
              </a:rPr>
              <a:t> – совершил путешествие на Канарские острова, Марокко, по побережью Красного мор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5172120" y="1484280"/>
            <a:ext cx="16826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292720" y="4221000"/>
            <a:ext cx="1424160" cy="1584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16360" y="3429000"/>
            <a:ext cx="2735280" cy="576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. Н. Миклухо-Макла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5877000"/>
            <a:ext cx="2663640" cy="50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. М. Пржевальски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8:13:28Z</dcterms:created>
  <dc:creator>Урезкова Наталья</dc:creator>
  <dc:description/>
  <dc:language>en-US</dc:language>
  <cp:lastModifiedBy>Урезков Дмитрий</cp:lastModifiedBy>
  <dcterms:modified xsi:type="dcterms:W3CDTF">2003-10-03T16:30:10Z</dcterms:modified>
  <cp:revision>10</cp:revision>
  <dc:subject/>
  <dc:title>Образование и наука второй половины 19 века</dc:title>
</cp:coreProperties>
</file>