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3F39D-8229-4F53-83B6-ABCD6A1A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B4550-E255-480F-943B-5BFD45A3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DB192-11E2-4D4B-B634-CB58690D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F84C4-3F17-41A6-9A80-FFBEB25D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0213-D4F4-4CFB-8AE3-2FFA1D52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042A-9F8B-4577-B7C8-2E760F93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2B9F-7C3B-4E11-A66B-1967AE21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F6D6-E37A-47B5-B844-1BA4AE68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EE78-9B9E-4700-95BA-AE40BC7E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1DB9-71BC-4C92-9406-34ED4285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F419-EC9C-47A2-A33E-CA5BF229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C7FE7-36C8-410A-9D7E-F949F022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BFE6-E21E-4480-A5F5-377223A1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7A5F-7B59-491F-AF9E-D1C9662F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F382-A1D8-4B11-836E-EEFAE705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631D-780E-45ED-A532-79DA194D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002A-3378-4813-B1FA-DC67DFFD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8F3C6-C4AE-4521-A93D-DEFA2A3C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06AFC-75D5-4C01-B8F9-10B418DC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EB381-5B6F-4013-B2BF-9874941B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5E738-9426-4849-9A77-2521CB27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E907B-76B6-4317-B09F-10424309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BA79D-817A-4ADF-A611-C6475138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8E069-0A45-48EE-A93B-B481E0AA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128C-46FB-4175-A2D5-D5F482F868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4950-046E-412F-A75F-ADCEB7D40A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Garamond"/>
              </a:rPr>
              <a:t>Правила поведения при пожаре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549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МОУ Большемурашкинская средняя общеобразовательная шк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5877000"/>
            <a:ext cx="547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ольшое Мурашкино, 2009-2010 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1268280"/>
            <a:ext cx="820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В грозу запреще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укрываться возле одиноких деревь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не рекомендуется при движении прислоняться к скалам и отвесным стена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останавливаться на опушке лес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идти и останавливаться возле водоем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прятаться под скальным навес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бегать и суетитьс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передвигаться плотной группо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находиться в мокрой одежд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хранить металлические предметы в палат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87280" y="476280"/>
            <a:ext cx="6913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aramond"/>
              </a:rPr>
              <a:t>Если вы попали в гроз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4000" y="1268280"/>
            <a:ext cx="83516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Если вы попали в грозу, находясь в крупном городе среди высотных зданий, то вы имеете мало шансов быть поражёнными молнией, т.к. большинство домов имеют громоотводы, которые из-за меньшего сопротивления являются более привлекательными объектами для молнии. Например, практически полностью исключается удар молнии вблизи Останкинской телебашни на расстоянии её выс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Garamond"/>
              </a:rPr>
              <a:t>Если вы оказались за городом, то ни в коем случае не прячьтесь от дождя под одиноко стоящим деревом. Если вы всё же оказались на поле с таким деревом, то надо встать к нему лицом или спиной, в таком случае при возможном ударе молнии в дерево разность потенциалов между вашими ногами будет минималь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Garamond"/>
              </a:rPr>
              <a:t>Во время грозы опасно купаться в реке, т.к. вода является хорошим проводником тока. В ситуации надвигающейся грозы, и уж тем более во время её, опасно ходить с длинными предметами под линиями электропередач, особенно это касается графитовых удочек, причём для удара током непосредственный контакт с проводом не является обязательным - «пробой» может произойти и на расстоянии 1-2 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Garamond"/>
              </a:rPr>
              <a:t>При грозе желательно избавиться от металлических предметов, известны случаи удара молнии по находящейся в кармане связке ключ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476280"/>
            <a:ext cx="6913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aramond"/>
              </a:rPr>
              <a:t>Если вы попали в гроз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ff"/>
                </a:solidFill>
                <a:latin typeface="Garamond"/>
              </a:rPr>
              <a:t>Спасибо за внимание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61960" y="476280"/>
            <a:ext cx="82198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aramond"/>
              </a:rPr>
              <a:t>Основные правила поведения при пожа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341360"/>
            <a:ext cx="7991280" cy="56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- трезво оценить ситуац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вызвать пожарную охран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(по телефону 01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е терять время и силы на спас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имуще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любым способом спасать себя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других, попавших в бед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- позаботьтесь о спасении детей и престарелых; уведите их подальше от места пожа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- обязательно послать кого-нибудь навстречу пожарным подразделениям, чтобы дать им необходимую информацию (точный адрес, что горит, есть ли там люди и т. 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87280" y="476280"/>
            <a:ext cx="6913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aramond"/>
              </a:rPr>
              <a:t>Если горит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460520"/>
            <a:ext cx="367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если на вас загорелась одежда, не вздумайте бежать - пламя разгорится еще сильне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постарайтесь быстро сбросить горящую одежду; вам повезло, если рядом любая лужа или сугроб, - ныряйте туда; если их нет, падайте на землю и катайтесь, пока не собьёте плам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последняя возможность - накинуть на себя любую плотную ткань (пальто, одеяло и пр.), оставив при этом голову открытой; не пытайтесь снимать одежду с обожжённых участков тела до обращения к врач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174920" cy="2565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87280" y="476280"/>
            <a:ext cx="6913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aramond"/>
              </a:rPr>
              <a:t>Помощь при ожог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1413000"/>
            <a:ext cx="4465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 первым делом подставьте обожжённое место под струю холодной вод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 когда боль утихнет, наложите чистую сухую повязку; ни в коем случае не смазывайте ожог ни жиром, ни спиртом, ни маслом, ни крем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 до приезда врача дайте пострадавшему любое обезболивающее средство; при шоке срочно дайте 20 капель настойки валериан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 при серьёзных ожогах ваша помощь пострадавшему - завернуть его в чистую ткань и отправить в травмопунк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809880" cy="50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87280" y="476280"/>
            <a:ext cx="6913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aramond"/>
              </a:rPr>
              <a:t>Если пожар в подъез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48428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ни за что не входите в подъезд, поскольку дым очень токсичен, а горячий воздух может обжечь легк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прежде всего, звоните «01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чрезвычайно опасно спускаться вниз по веревкам, простыням и водосточным трубам; и тем более не следует прыгать из око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уплотните свою входную дверь мокрой тканью, чтобы в квартиру не проникал ды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самое безопасное место - на балконе или возле окна; к тому же здесь пожарные найдут вас прежде всего; только оденьтесь потеплее, если на улице холодно, и закройте за собой балконную двер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если вы случайно оказались в задымлённом подъезде, не отчаивайтесь: двигайтесь к выходу, держась за стены (перила нередко ведут в тупик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при этом как можно дольше задержите дыхание, а ещё лучше - защитить нос и рот шарфом или платк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ни в коем случае не пользуйтесь лифтом - его в любое время могут отключи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и поскольку огонь и дым распространяются именно снизу вверх, особенно осторожными быть должны жители верхних этаж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87280" y="476280"/>
            <a:ext cx="6913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aramond"/>
              </a:rPr>
              <a:t>Пожар на балко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268280"/>
            <a:ext cx="468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пожар на балконе опасен тем, что огонь может быстро перекинуться на верхние этажи или проникнуть в квартир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после сообщения о загорании в пожарную охрану попробуйте справиться с пламенем любыми подручными средствами; если есть возможность - выбросьте горящий предмет с балкона - только убедитесь, что внизу никого не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если самостоятельно потушить огонь не удалось, закройте балконную дверь, форточку и ждите приезда пожарных на улиц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в вашей семье есть маленькие дети - всегда держите дверь на балкон закрытой: ребятишки очень любят пускать вниз «огнеопасные самолетики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ни в коем случае нельзя хранить на балконе горючие материал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31902" t="0" r="7866" b="0"/>
          <a:stretch/>
        </p:blipFill>
        <p:spPr>
          <a:xfrm>
            <a:off x="5219640" y="1628640"/>
            <a:ext cx="36720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87280" y="476280"/>
            <a:ext cx="6913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aramond"/>
              </a:rPr>
              <a:t>Пожар в кварти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197000"/>
            <a:ext cx="8280360" cy="58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2/3 всех пожаров происходят в жилых домах и квартирах; и чаще всего из-за небрежного обращения с огнём, особенно во время курения «на нетрезвую голову»; нередки пожары и от неисправных или оставленных без присмотра электроприбор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если у вас или у ваших соседей случился пожар, главное - сразу же вызвать пожарную охрану; она прибудет в считанные минуты; и пусть у вас нет домашнего телефона - безвыходных ситуаций не бывает: сигнал о бедствии можно подать из окна или балкона; тем, кто прикован к постели, можно поднять необычный шум (стучать по батарее или в пол и стены, бросить в окно или с балкона какие-то предметы и т.д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загоревшийся бытовой электроприбор надо сначала обесточи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при возможности покиньте квартиру через входную дверь; очень важно при этом не забыть плотно закрыть за собой дверь горящей квартиры; это не даст распространиться огню по всей квартир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126828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если путь к входной двери отрезан огнём и дымом, спасайтесь через балкон; балконную дверь обязательно закройте за собой; можно перейти на нижний этаж с помощью балконного люка или к соседям по смежному балкон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ещё один путь спасения - через окно; уплотните дверь в комнату тряпками или мебелью; как только убедитесь, что ваш призыв о помощи услышан, ложитесь на пол, где меньше дыма от пожара; таким образом, можно продержаться около получа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476280"/>
            <a:ext cx="6913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aramond"/>
              </a:rPr>
              <a:t>Пожар в кварти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26772" r="0" b="21252"/>
          <a:stretch/>
        </p:blipFill>
        <p:spPr>
          <a:xfrm>
            <a:off x="1187280" y="3716280"/>
            <a:ext cx="6816960" cy="2657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3317" b="0"/>
          <a:stretch/>
        </p:blipFill>
        <p:spPr>
          <a:xfrm>
            <a:off x="324000" y="549360"/>
            <a:ext cx="8604000" cy="5924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0:23:38Z</dcterms:created>
  <dc:creator>Дмитрий</dc:creator>
  <dc:description/>
  <dc:language>en-US</dc:language>
  <cp:lastModifiedBy>Дмитрий</cp:lastModifiedBy>
  <dcterms:modified xsi:type="dcterms:W3CDTF">2009-09-10T11:06:46Z</dcterms:modified>
  <cp:revision>3</cp:revision>
  <dc:subject/>
  <dc:title>Правила поведения при пожаре</dc:title>
</cp:coreProperties>
</file>