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467-5EC3-4675-8CB2-1F31FB25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0D3-D6BC-4C8B-83BD-08F7A74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017-9B14-4482-8A20-A7DDC54C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CCC-8F1A-4970-A9DD-11F3917E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F330-30D0-40CC-9EFD-3CC06700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961-E48F-4EFC-B621-A4B541F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4D7F-7ABB-4665-98EC-C34E86B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840E-13DC-4B92-8DCB-0E32F4A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8D6-4DF6-4DFB-BFB9-EF48389B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1A2-022E-420C-A8BA-17D1AC3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FEC-AF05-479C-8CA6-8579CEE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42D-9FCA-483C-BFA5-8652D77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323-3FC3-480C-A44E-9D7ADE5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8D58-0EEF-4DB5-A15E-30FB39D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FFBF-DFF5-4CF7-8641-853CC13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0EB-1A6B-43CF-AA08-320CBE8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79A-14A0-4173-A9E8-2FC162C0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B31-FCE6-49B3-95D4-F079C59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BAC-AF19-4B47-890B-864DEB5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BAF-33B4-4C3C-A236-6B9F4A7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260-07A6-45E3-A9F2-38BAF8BC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5A9-3CCC-4763-98E1-A040DC8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470-9A94-4209-9193-35CF1E5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725-A6A3-492D-9755-440693D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D5F-7DEE-400B-8569-F854E8B31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5F80-A5AF-4C73-98F7-2B2279182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19640" y="4797360"/>
            <a:ext cx="371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олкачева Ел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64000" y="3860640"/>
            <a:ext cx="3240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ыполни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62400" y="5445000"/>
            <a:ext cx="398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5f03">
                        <a:alpha val="70196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ишагина Ма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5f03">
                      <a:alpha val="70196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-316080"/>
            <a:ext cx="8569080" cy="36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onotype Corsiva"/>
              </a:rPr>
              <a:t>Рабочий класс и рабочее 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92720" y="6021360"/>
            <a:ext cx="356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Торопова М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rcRect l="3307" t="3741" r="0" b="0"/>
          <a:stretch/>
        </p:blipFill>
        <p:spPr>
          <a:xfrm>
            <a:off x="611280" y="2565360"/>
            <a:ext cx="360036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План:</a:t>
            </a:r>
            <a:br>
              <a:rPr sz="8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1. Условия труда и бы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2. Причины забастово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3. Морозовская стач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6481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На фабриках, работавших  в одну смену, рабочий день доходил до 14-15 часов,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на предприятиях с двухсменным режимом он составлял 12 часов.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Заработная плата рабочих в России была в два раза ниже, чем в Англии,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в четыре раза ниже, чем США. Но и эту плату рабочий получал не полностью.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дминистрация штрафовала рабочих не только за прогулы, но и за пение (женщины – крестьянки никак не могли отвыкнуть от деревенской привычки петь во время работы),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за «появление в конторе не поодиночке», за выход за ворота, за курение во время работы и т. п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176560" cy="242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24000" y="47628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Условия тру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а большинстве фабрик  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заработная плата выдавалась нерегулярно или с большими интервалами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– на Рождество, Пасху, Покров. До очередной получки рабочий вынужден был брать продовольствие в кредит в фабричной лавке – обычно не важного качества и по высоким цена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Рабочие жили в казармах при предприятиях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. Часть казарм отводилась под общие спальни, а часть разгораживалась на каморке. В общих спальнях вдоль стен  устаивались нары. На них располагались на ночлег взрослые и дети, мужчины и женщины. В каморках располагались семейные рабочие.</a:t>
            </a:r>
            <a:br>
              <a:rPr sz="2400"/>
            </a:b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Чаще жили по две семьи в одной каморке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, а то и больше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Лишь высококвалифицированные рабочие, постоянно жившие в городе, имели возможность снять квартиру или купить свой собственный домик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Условия бы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Промышленный кризис начало 80 – х г.г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. с особой силой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ударил по текстильной промышленности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Хозяева стали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сокращать производство, останавливать фабрики, увольнять рабочих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Снижалась заработная плата, увеличивали штрафы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Но вскоре обнаружилось, что рабочие вовсе не обладали тем бесконечным терпением, каким отличались крестьяне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е же самые люди на фабрике вели   себя иначе, чем в деревне, где их сковывали отцовская власть и патриархальные традиции.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Крестьянин приносил с собой на фабрику накопившееся недовольство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, здесь оно возрастало еще больше и прорывалось наружу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620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Причины забастов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8748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Организаторы стачки  устроили 2 тайные встречи с наиболее надежными рабочими и договорились 7 января остановить фабрику.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 этот день утром в цехах и мастерских послышались крики: «Кончай работу!» Забастовавших ткачей оказалось трудно удержать от самоуправства.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Толпа начала громить квартиры директора и особо ненавистных мастеров, а также продовольственную лавку.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К ночи того же дня в Орехово – Зуево прибыли войска. На другой день на улицах появились солдатские патрули и конные разъезды.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89000"/>
            <a:ext cx="6553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Начал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Морозовской  стачк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158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Приехал губернатор. </a:t>
            </a:r>
            <a:br>
              <a:rPr sz="2400"/>
            </a:b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Из толпы вышел Волков и представил заранее выработанные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требования: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ни включали повышение заработанной платы,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упорядочение штрафов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прием продукции при свидетелях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Рабочие требовали также, чтобы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администрация предупреждала об увольнение за15 дней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Во время переговоров солдаты незаметно оттеснили Волкова с группой рабочих, а затем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арестовали их.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Ход стач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96000" y="907560"/>
            <a:ext cx="302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лиция произвела новые аресты. Многих рабочих выслали. Под воздействием репрессий стачка пошла на убыль. Схватили и Моисеенко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5183280" cy="2852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2360" y="62064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Итог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4508640"/>
            <a:ext cx="734508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18 января стачка закончилас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Под впечатлением от Морозовской стачки правительство в 1886 году приняло </a:t>
            </a:r>
            <a:r>
              <a:rPr b="1" lang="en-US" sz="2000" spc="-1" strike="noStrike">
                <a:solidFill>
                  <a:srgbClr val="cccc00"/>
                </a:solidFill>
                <a:latin typeface="Arial"/>
              </a:rPr>
              <a:t>специальный закон:</a:t>
            </a: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отныне участие в забастовке каралось арестом сроком до 1 – го месяца. Предпринимателям же запрещалось налагать штраф сверхустановленного разм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8:10:13Z</dcterms:created>
  <dc:creator>Урезкова Наталья</dc:creator>
  <dc:description/>
  <dc:language>en-US</dc:language>
  <cp:lastModifiedBy>Урезков Дмитрий</cp:lastModifiedBy>
  <dcterms:modified xsi:type="dcterms:W3CDTF">2003-10-03T16:56:15Z</dcterms:modified>
  <cp:revision>10</cp:revision>
  <dc:subject/>
  <dc:title>Слайд 1</dc:title>
</cp:coreProperties>
</file>