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B87D-08B3-4FB5-8E65-874CE548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2FE-2D03-4661-9E89-00BC879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F7C5-47F0-43DD-BD34-20B62CCE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333-E434-447B-819C-E3038911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F1C1-251D-42E0-B10A-B3B0930B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790F-4523-4105-BB99-8CB107F8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8051-07C5-422A-90C6-C4C70359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7E34-A69D-4534-B5C5-F4C466C7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0B397-7CF9-4587-B2C6-EF463378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AE0F-17C9-439C-BF91-C5B0B57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F0D4-4F12-43AD-B011-FF4111D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1DA-181A-477F-8EBE-F454F68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344F-9CEF-40B3-98BA-60D10C02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FF39-C265-4DF4-8E43-6B4B317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05BA-D1F6-419F-9EE4-BC8A20D7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E4C0-05A6-46E0-A106-9538FA4C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0C49-332F-469D-9017-D4CA1533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CEA-8BA3-4A8B-A8DB-91CF0354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FC1-F5BB-4F24-9FE8-715E5AAE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CF9-6A81-45DC-AAF7-90E3138F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7C2-7811-44B4-AF2C-8D4F04A9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EAD3-AE66-4BFF-A85D-23AD03A5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3050-5491-4B5E-AD5E-976EC64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C97-6ADA-424B-8D69-0B05F636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6CF-4293-4E8F-9F33-FE0B8A2FD8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FB65-D5B5-48DF-B099-879E8F05EF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Роль семьи в духовно-нравственном воспитании детей. Вчера, сегодня, завтра…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4437000"/>
            <a:ext cx="756144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ff66"/>
                </a:solidFill>
                <a:latin typeface="Georgia"/>
              </a:rPr>
              <a:t>Приятного просмотр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300"/>
                            </p:stCondLst>
                            <p:childTnLst>
                              <p:par>
                                <p:cTn id="1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457200" y="260280"/>
          <a:ext cx="8229600" cy="6021360"/>
        </p:xfrm>
        <a:graphic>
          <a:graphicData uri="http://schemas.openxmlformats.org/drawingml/2006/table">
            <a:tbl>
              <a:tblPr/>
              <a:tblGrid>
                <a:gridCol w="2314440"/>
                <a:gridCol w="5915160"/>
              </a:tblGrid>
              <a:tr h="24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66"/>
                          </a:solidFill>
                          <a:latin typeface="Garamond"/>
                        </a:rPr>
                        <a:t>Иде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спитание – это постепенное обогащение ребёнка знаниями, умениями, опытом, это развитие ума и формирование отношения к добру и злу, подготовка к борьбе против всего, что идёт вразрез с принятыми в обществе моральными устоями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66"/>
                          </a:solidFill>
                          <a:latin typeface="Garamond"/>
                        </a:rPr>
                        <a:t>Су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ральные идеи становятся достоянием каждого воспитанника, превращаются в нормы и правила поведения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66"/>
                          </a:solidFill>
                          <a:latin typeface="Garamond"/>
                        </a:rPr>
                        <a:t>Содерж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Формирование таких качеств личности, как идейность, гуманизм, гражданственность, ответственность, трудолюбие, благородство и умение управлять собой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ровни воспитания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4000"/>
            </a:b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(по С.И. Варюхиной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мотивационно-побудительны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эмоционально-чувственны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рациональный (умственный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492360" y="3789360"/>
            <a:ext cx="230688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150"/>
                            </p:stCondLst>
                            <p:childTnLst>
                              <p:par>
                                <p:cTn id="18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25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350"/>
                            </p:stCondLst>
                            <p:childTnLst>
                              <p:par>
                                <p:cTn id="1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95280" y="179280"/>
            <a:ext cx="7991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ff66"/>
                </a:solidFill>
                <a:uFillTx/>
                <a:latin typeface="Garamond"/>
              </a:rPr>
              <a:t>Мотивационно-побудительный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уровень содержит мотивы поступков, нравственные потребности и убеждения. Нравственное воспитание только тогда носит правильный характер, когда в основе его лежит побуждение детей к развитию, когда сам ребёнок проявляет активность в своём нравственном развитии, то есть, когда он сам хочет быть хорошим. Этот уровень наиболее важный, именно здесь коренятся истоки поведения человека, осуждаемые или одобряемые людьми и обществом, приносящие добро или зло, пользу или вр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635280" y="4653000"/>
            <a:ext cx="1569960" cy="1819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4360" y="-540000"/>
            <a:ext cx="79200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ff66"/>
                </a:solidFill>
                <a:uFillTx/>
                <a:latin typeface="Garamond"/>
              </a:rPr>
              <a:t>Чувственно-эмоциональный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уровень состоит из нравственных чувств и эмоций. Эмоции, как известно, бывают положительными (радость, благодарность, нежность, любовь, восхищение и т. п.) и отрицательными (гнев, зависть, злость, обида, ненависть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Чувства – действенные помощники воспитания. Запрет, менторство, морализаторство далеко не так доходчивы, как сердечность, искренность и ласка. Холодная строгость в воспитании вызывает у ребёнка отчуждение, которое может перерасти в притворство, лицемерие и обман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9640" y="-74880"/>
            <a:ext cx="81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Рациональный, или умственный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уровень содержит моральные знания – понятия о смысле жизни и счастье, добре и зле, чести, достоинстве, долге. Кроме понятий, к моральным знаниям относятся также принципы, идеалы, нормы поведения, моральные оцен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99"/>
                </a:solidFill>
                <a:latin typeface="Garamond"/>
              </a:rPr>
              <a:t>Воспитывать в детях надо все элементы их нравственного мира. Всё важно. Гармония нравственного мира человека, гарантия его доброты обеспечиваются только всеми его слагаемыми, но направляющими являются нравственные потребности. Нравственные потребности – самые благородные и человечные – не даются от природы, их необходимо воспитывать, без них невозможна высокая духовность, доброта</a:t>
            </a:r>
            <a:r>
              <a:rPr b="0" lang="en-US" sz="1800" spc="-1" strike="noStrike">
                <a:solidFill>
                  <a:srgbClr val="ff6699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Элементы нравственных потребносте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Отзывчив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Нравственная установк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Не вредить никому, а приносить максимум пользы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Способность к деятельной доброте и непримиримость ко всем проявлениям зл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995640" y="4508640"/>
            <a:ext cx="153036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11280" y="4734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Совесть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– это способность человека к самоконтролю, самооценке на основе общественных моральных оценок. Совесть исконно означает знание общих сведений о человеческом поведении, его нормах, принципах, сущность человека и т. 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18720" y="2996280"/>
            <a:ext cx="936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Этапы формирования совести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741480"/>
            <a:ext cx="79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99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воспитание у ребёнка чувства стыд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99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9966"/>
                </a:solidFill>
                <a:latin typeface="Garamond"/>
              </a:rPr>
              <a:t>развитие понятий «моральный долг» и «ответственнос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Как воспитать нравственные потребност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Родители должны осознавать важность этой задач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Развивать сами в себе эти нравственные потребности, так как совершенствование продолжается всю человеческую жизнь. Родители, которые хотели бы воспитать своего ребёнка не стихийно, а сознательно, должны начать анализ воспитания своего ребёнка с анализа самих себя, с анализа особенностей собственной лич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Знать, как, какими методами формировать в детях нравственные потребност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5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Факторы воспитательного потенциала семь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материальная и жилищно-бытовая обеспечен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культурно-образовательный уровень родителей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морально-психологический клима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авторитет отца и матери у дете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доверие детей к родителям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единство требований в семь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7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Причины педагогических ошибок родителей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Garamond"/>
              </a:rPr>
              <a:t>неполная семь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Garamond"/>
              </a:rPr>
              <a:t>конфликтная атмосфера в семь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Garamond"/>
              </a:rPr>
              <a:t>наличие сформировавшейся изначально ложной точки зрения на воспитание ребёнка. Например: «Мой святой долг – одеть, обуть, накормить, а остальное – дело школы»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Garamond"/>
              </a:rPr>
              <a:t>при полном внешнем благополучии семьи – авторитарные методы воспитания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2160" indent="-542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66"/>
                </a:solidFill>
                <a:latin typeface="Garamond"/>
              </a:rPr>
              <a:t>излишняя порочная родительская любов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500"/>
                            </p:stCondLst>
                            <p:childTnLst>
                              <p:par>
                                <p:cTn id="3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Актуальность тем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229600" cy="46162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Причин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99"/>
                          </a:solidFill>
                          <a:latin typeface="Garamond"/>
                        </a:rPr>
                        <a:t>Следстви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кологические бедств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рушение экологического равновесия в физическом и нравственном здоровье люд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худшение социально-экономического положения сем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тская и подростковая преступность, наркомания, алкоголиз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теря нравственных ориенти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ездуховность, переоценка ценносте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Как вести себя учителю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ыяснить, как сделать так, чтобы максимизировать положительное и свести к минимуму отрицательное влияние семьи на воспитание ребёнк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убедить родителей (в каждом конкретном случае используя нужный подход) в ошибочности и несостоятельности их точки зрения и указать методы и пути нравственного воспитания ребёнка в семь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Методы нравственного воспитани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407960"/>
            <a:ext cx="867564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Garamond"/>
              </a:rPr>
              <a:t>     </a:t>
            </a:r>
            <a:r>
              <a:rPr b="1" lang="en-US" sz="2500" spc="-1" strike="noStrike" u="sng">
                <a:solidFill>
                  <a:srgbClr val="ff7c80"/>
                </a:solidFill>
                <a:uFillTx/>
                <a:latin typeface="Garamond"/>
              </a:rPr>
              <a:t>Атмосфера любви</a:t>
            </a:r>
            <a:r>
              <a:rPr b="1" lang="en-US" sz="2500" spc="-1" strike="noStrike">
                <a:solidFill>
                  <a:srgbClr val="ff7c80"/>
                </a:solidFill>
                <a:latin typeface="Garamond"/>
              </a:rPr>
              <a:t>. Лишённый этого чувства человек не способен уважать своих близких, сограждан, Родину, делать людям добро. Атмосфера любви и сердечной привязанности, чуткости, заботливости членов семьи друг о друге оказывает сильнейшее влияние на детскую психику, даёт широкий простор для проявления чувств ребёнка, формирования и реализации его нравственных потребностей. </a:t>
            </a:r>
            <a:r>
              <a:rPr b="1" lang="en-US" sz="2500" spc="-1" strike="noStrike">
                <a:solidFill>
                  <a:srgbClr val="ccff66"/>
                </a:solidFill>
                <a:latin typeface="Garamond"/>
              </a:rPr>
              <a:t>При этом П. Лесгафт утверждал, что слепая неразумная материнская любовь «забивая ребёнка хуже, чем розги», делает человека безнравственным потребителем.</a:t>
            </a:r>
            <a:r>
              <a:rPr b="0" lang="en-US" sz="2500" spc="-1" strike="noStrike">
                <a:solidFill>
                  <a:srgbClr val="ccff66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-14400"/>
            <a:ext cx="806436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ffff"/>
                </a:solidFill>
                <a:uFillTx/>
                <a:latin typeface="Garamond"/>
              </a:rPr>
              <a:t>Атмосфера искренности</a:t>
            </a:r>
            <a:r>
              <a:rPr b="1" lang="en-US" sz="2100" spc="-1" strike="noStrike">
                <a:solidFill>
                  <a:srgbClr val="ffffff"/>
                </a:solidFill>
                <a:latin typeface="Garamond"/>
              </a:rPr>
              <a:t>. По словам И.А. Ильина «Родители… не должны лгать детям ни в каких важных, значительных обстоятельствах жизни. Всякую ложь, всякий обман, всякую симуляцию… ребёнок подмечает с чрезвычайной остротой и быстротой; и, подметив, впадает в смущение, соблазн и подозрительность. Если ребёнку нельзя сообщить чего-нибудь, то всегда лучше честно и прямо отказать в ответе или провести определённую границу в осведомлении, чем выдумывать вздор и потом запутываться в нём или чем лгать и обманывать и потом быть изобличённым детской проницательностью. И не следует говорить так:  «Это тебе рано знать», или «Это ты всё равно не поймёшь»; такие ответы только раздражают в душе ребёнка любопытство и самолюбие. Лучше отвечать так: «Я не имею право сказать тебе это; каждый человек обязан  хранить известные секреты, а допытываться о чужих секретах неделикатно и нескромно». Этим не нарушается прямота и искренность, и даётся конкретный урок долга, дисциплины и деликатности…»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68360" y="60480"/>
            <a:ext cx="82803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Garamond"/>
              </a:rPr>
              <a:t>Разъяснение. Воздействие слов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. А. Сухомлинский отмечал, что слово должно применяться именно к конкретному человеку, слово должно быть содержательным, иметь глубинный смысл и эмоциональную окраску. Чтобы слово воспитывало, оно должно оставлять след в мыслях и душе воспитанника, а для этого надо учить вникать в смысл слов. Только тогда мы можем рассчитывать на эмоциональное воздейств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Как же правильно говорить с ребёнко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о-первых, не надо говорить ребёнку или подростку то, что он очень хорошо знает без нас. Это бессмысленно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о-вторых, надо задумываться над тоном, манерой нашего разговора, чтобы избежать «отчитываний» и «скучных проповедей». Ни то, ни другое не западает в душу ребёнк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Garamond"/>
              </a:rPr>
              <a:t>В-третьих, надо продумывать, как связать нашу беседу с жизнью, какого практического результата мы хотим добитьс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90880"/>
            <a:ext cx="8675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Большой ошибкой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семейном воспитании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являются упреки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Одни упрекают ребенка в том, что он уже большой, но плохо учится, другие ставят в упрек и возраст, и физическую силу. Правильно поступают те родители, которые вызывают у детей чувство гордости их взрослостью, подбадривают, вселяют уверенность в возможность успе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Крайней мерой воздействия В. А. Сухомлинский считает наказание.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Наказание имеет воспитательную силу в том случае, когда оно убеждает, заставляет задуматься над собственным поведением, над отношением к людям. Но наказание не должно оскорблять достоинство человека, выражать неверие в не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9640" y="-385560"/>
            <a:ext cx="81378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Порицание.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Воспитательная сила порицания зависит от моральных качеств, тактичности воспитателя. Надо суметь, не оскорбляя ребёнка, дать справедливую, хотя, может быть, и резкую оценку его действиям. Искусство порицания состоит в мудром сочетании строгости и доброты. Очень важно, чтобы ребёнок в порицании взрослого почувствовал не только строгость, но и заботу о себ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Очень важным методом в воспитании В. А. Сухомлинский считает запрещение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 Оно предупреждает многие недостатки в поведении, учит детей разумно относиться к своим желаниям. Желаний у детей и подростков очень много, но их все невозможно и не нужно удовлетворя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Необходимо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 воспитывать чувства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 Это значит и словом и делом вызывать переживания, пробуждать чувства, умышленно создавая соответствующую ситуацию или используя естественную обстановк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9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-28440"/>
            <a:ext cx="8136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Регулярный труд в присутствии ребёнка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 Постоянно наблюдая за работой взрослых, ребёнок начинает, имитировать это в игре, а затем и сам включается в процесс труда как помощник, и, наконец, как самостоятельный исполнител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Необходимо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исключение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так называемых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прибавочных раздражителей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из жизни ребёнка: роскоши, нищеты, чрезмерных лакомств, беспорядочной еды, табака, алкогол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Оградить ребёнка от контакта с безнравственными людьми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 Важнейшим методом овладения знаниями и опытом у ребёнка является имитация. Инстинкт имитации заставляет ребёнка пытаться воспроизвести все действия и поступки  окружающих его людей. Воспроизвёл – значит освоил. Только к 7-и годам ребёнок вырабатывает свои собственные нравственные основания и может оценивать поведение и поступки окружающих люде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39640" y="48960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Семья как ячейка общества является неотделимой составной частью общества. И жизнь общества характеризуется теми же духовными и материальными процессами, как и жизнь семьи. Чем выше культура семьи, следовательно, тем выше культура всего общества. Общество состоит из людей, которые являются отцами и матерями в своих семьях, а также их детей. В этой связи очень важны роли отца и матери в семье, а в частности воспитательная функция семьи. Ведь от того, как родители приучают своих детей к труду, уважению к старшим, любви к окружающей природе и людям, зависит то, каким будет общество, в котором будут жить наши де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Garamond"/>
              </a:rPr>
              <a:t>Спасибо за внимание!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aramond"/>
              </a:rPr>
              <a:t>Будьте счастливы и здоровы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964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cccc"/>
                </a:solidFill>
                <a:latin typeface="Garamond"/>
              </a:rPr>
              <a:t>Любите своих близких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000"/>
                            </p:stCondLst>
                            <p:childTnLst>
                              <p:par>
                                <p:cTn id="4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1638360" cy="2160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635280" y="3500280"/>
            <a:ext cx="2227320" cy="24624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372360" y="692280"/>
            <a:ext cx="2457360" cy="1573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rot="2029800">
            <a:off x="1746000" y="3392280"/>
            <a:ext cx="2230200" cy="215640"/>
          </a:xfrm>
          <a:prstGeom prst="rightArrow">
            <a:avLst>
              <a:gd name="adj1" fmla="val 50000"/>
              <a:gd name="adj2" fmla="val 25855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781800">
            <a:off x="5004720" y="3140640"/>
            <a:ext cx="2230200" cy="215640"/>
          </a:xfrm>
          <a:prstGeom prst="rightArrow">
            <a:avLst>
              <a:gd name="adj1" fmla="val 50000"/>
              <a:gd name="adj2" fmla="val 25855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2700360" y="1341000"/>
            <a:ext cx="2951280" cy="216000"/>
          </a:xfrm>
          <a:prstGeom prst="rightArrow">
            <a:avLst>
              <a:gd name="adj1" fmla="val 50000"/>
              <a:gd name="adj2" fmla="val 34158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6360" y="2923200"/>
            <a:ext cx="153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семья</a:t>
            </a:r>
            <a:r>
              <a:rPr b="0" lang="en-US" sz="1800" spc="-1" strike="noStrike">
                <a:solidFill>
                  <a:srgbClr val="ff66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10520" y="59500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ребе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8080" y="242100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Garamond"/>
              </a:rPr>
              <a:t>об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93560" y="691200"/>
            <a:ext cx="61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Garamond"/>
              </a:rPr>
              <a:t>Здоровая семья</a:t>
            </a:r>
            <a:r>
              <a:rPr b="0" i="1" lang="en-US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1989000"/>
            <a:ext cx="1512720" cy="2448000"/>
          </a:xfrm>
          <a:prstGeom prst="downArrow">
            <a:avLst>
              <a:gd name="adj1" fmla="val 50000"/>
              <a:gd name="adj2" fmla="val 4045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48240" y="4508640"/>
            <a:ext cx="737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9966"/>
                </a:solidFill>
                <a:latin typeface="Garamond"/>
              </a:rPr>
              <a:t>Здоровое обществ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Цель исследования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792360"/>
            <a:ext cx="7991640" cy="55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>
              <a:lnSpc>
                <a:spcPct val="100000"/>
              </a:lnSpc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показать, что семейные традиции, моральные принципы, педагогическое мастерство родителей являются необходимыми условиями формирования нравственных убеждений ребён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7200">
              <a:lnSpc>
                <a:spcPct val="100000"/>
              </a:lnSpc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рассмотреть проблемы нравственного воспитания детей в  сем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Немного истор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6516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стория вопроса о влиянии семьи на воспитание ребенка  уходит своими корнями в глубокую древность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емейному воспитанию уделяли в своих трудах внимание такие учёные как </a:t>
            </a:r>
            <a:r>
              <a:rPr b="1" lang="ru-RU" sz="2800" spc="-1" strike="noStrike">
                <a:solidFill>
                  <a:srgbClr val="ccff66"/>
                </a:solidFill>
                <a:latin typeface="Garamond"/>
              </a:rPr>
              <a:t>Тацит, Петроний, Вергилий, Конфуций, Кант, Гегель, Екатерина Великая, Жан Жак  Руссо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многие другие. Ни один известный мыслитель, политик, государственный деятель не обошёл эту тему своим вниманием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659640" y="2492280"/>
            <a:ext cx="1833480" cy="2737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-572040"/>
            <a:ext cx="676908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Русский писатель и просветитель Николай Николаевич Новиков в 1783 г. в трактате  «О воспитании и наставлении детей» писал: «Воспитывай детей твоих счастливыми людьми и полезными гражданами… Первая главная часть воспитания…попечение о теле». Далее просветитель отмечает: «Никакой человек не может быть ни довольным и счастливым, ни добрым гражданином, если сердце его волнуется беспорядочными пожеланиями, доводящими его либо до пороков, либо до дурачеств; если благополучие ближнего возбуждает в нем зависть или корыстолюбие заставляет его домогаться чужого имения, или сладострастие обессиливает его тело, или честолюбие и ненависть лишают его душевного покоя, без которого не можно никакого иметь удовольствия…а все сие зависит от образования сердца в юношестве. Из сего следует вторая главная часть воспитания, имеющая предметом образование сердца и называется учёными </a:t>
            </a:r>
            <a:r>
              <a:rPr b="1" lang="en-US" sz="2000" spc="-1" strike="noStrike" u="sng">
                <a:solidFill>
                  <a:srgbClr val="ccff66"/>
                </a:solidFill>
                <a:uFillTx/>
                <a:latin typeface="Garamond"/>
              </a:rPr>
              <a:t>нравственным воспитанием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… третья главная часть воспитания… просвещение, или образование разума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4360" y="333360"/>
            <a:ext cx="157176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8360" y="-421560"/>
            <a:ext cx="8280360" cy="77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нашей стране проблему нравственного воспитания рассматривали такие выдающиеся личности как профессор </a:t>
            </a:r>
            <a:r>
              <a:rPr b="1" lang="ru-RU" sz="2000" spc="-1" strike="noStrike">
                <a:solidFill>
                  <a:srgbClr val="ccff66"/>
                </a:solidFill>
                <a:latin typeface="Garamond"/>
              </a:rPr>
              <a:t>Ф. Фрадки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и доктор педагогических наук  </a:t>
            </a:r>
            <a:r>
              <a:rPr b="1" lang="ru-RU" sz="2000" spc="-1" strike="noStrike">
                <a:solidFill>
                  <a:srgbClr val="ccff66"/>
                </a:solidFill>
                <a:latin typeface="Garamond"/>
              </a:rPr>
              <a:t>М. Плохова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. Вот что они отмечали: «До революции школьное воспитание рассматривалось как нечто дополнительное к основному – воспитанию в семье». Основы нравственности, утверждали </a:t>
            </a:r>
            <a:r>
              <a:rPr b="1" lang="ru-RU" sz="2000" spc="-1" strike="noStrike">
                <a:solidFill>
                  <a:srgbClr val="ccff66"/>
                </a:solidFill>
                <a:latin typeface="Garamond"/>
              </a:rPr>
              <a:t>Л. Н. Толстой и С. А. Рачинский, К. Д. Ушинский, П. Ф. Каптерев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и другие педагоги, закладывались в семейном воспитании, а основная задача школы – дать ученику образов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Задача формирования человека нового типа требовала «разрыва» с семейным «консервативным» воспитанием, которое вызывало тревогу. </a:t>
            </a:r>
            <a:r>
              <a:rPr b="1" lang="ru-RU" sz="2000" spc="-1" strike="noStrike">
                <a:solidFill>
                  <a:srgbClr val="ccff66"/>
                </a:solidFill>
                <a:latin typeface="Garamond"/>
              </a:rPr>
              <a:t>Н. И. Бухари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говорил, что необходимо «разрушать старые отношения в семейной организации» и вести «медленный подкоп под самую консервативную твердыню всех гнусностей старого режима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эти же годы определяется вторая стратегия по отношению к семейному воспитанию. </a:t>
            </a:r>
            <a:r>
              <a:rPr b="1" lang="ru-RU" sz="2000" spc="-1" strike="noStrike">
                <a:solidFill>
                  <a:srgbClr val="ccff66"/>
                </a:solidFill>
                <a:latin typeface="Garamond"/>
              </a:rPr>
              <a:t>С. Т. Шацкий, П. П. Блонский, Н. Н. Иорданский, А. В. Евстигнеев-Беляков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считали необходимым опереться на положительное в семье, использовать традиции семейного воспитания. Однако власти было угодно воспитывать не гармоничную личность, а строителя коммунизма, поэтому повсеместно создавались школы-интерна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9640" y="-157320"/>
            <a:ext cx="820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 60-х годах павлышский педагог 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В. А. Сухомлинский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ступает в отчаянную борьбу с сохранившимся с 30-х годов педагогическим подходом к семейному воспитанию. Отец и мать – величайшие авторитеты для ребёнка. Существует глубокая связь поколений, писал учёный, ребёнок – одно  из звеньев тянущейся в века цепочки, и обрыв её – тягчайшая трагедия, которая неизбежно приводит к распаду нравственных нач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Заслуга </a:t>
            </a:r>
            <a:r>
              <a:rPr b="1" lang="en-US" sz="2400" spc="-1" strike="noStrike">
                <a:solidFill>
                  <a:srgbClr val="ccff66"/>
                </a:solidFill>
                <a:latin typeface="Garamond"/>
              </a:rPr>
              <a:t>В. А. Сухомлинского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в возвращении к общечеловеческим ценностям. Он первым в советской педагогике обратился к процессам духовной жизни ребёнка, необходимости и ценности сопереживания, сочувствия, созидания необходимых условий для воспитательной деятельности родителей и учител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4:28:58Z</dcterms:created>
  <dc:creator>Дмитрий</dc:creator>
  <dc:description/>
  <dc:language>en-US</dc:language>
  <cp:lastModifiedBy>Дмитрий</cp:lastModifiedBy>
  <dcterms:modified xsi:type="dcterms:W3CDTF">2008-04-28T18:39:39Z</dcterms:modified>
  <cp:revision>6</cp:revision>
  <dc:subject/>
  <dc:title>Слайд 1</dc:title>
</cp:coreProperties>
</file>