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828-E84D-4AF9-AA3D-1948987B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13B-B1A9-4E42-BD79-5E963A79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1E7-8CBD-4FD1-9767-93D47C69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769-5EC4-45D9-8328-F3339EC4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B0E4-A1D4-4A73-8DAC-26BF21F6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F975-85DB-45C3-B29E-A19DBCF1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836E-9EEE-41BC-8FBF-A70FF98B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C9AB-E1FA-4DA7-AA12-37C89C0D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AB92-2EEC-4364-B21A-37876D21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AE63-0D44-4BE7-A515-3FFBC9B2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E933-0277-4D62-9B6C-5D3AB70B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D296-688C-4A41-B5DD-8A748F75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7359-B9F5-4235-BA22-5714DA33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0251-45CF-45D7-8136-E0B879CA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32E5-4A74-49EA-B578-2E48B074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C481-20F0-40CE-A121-810AE7E6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F86C-6B14-41B8-B014-34C7407C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026-571E-4A39-A03A-CF2B00D6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91D-6B03-4CC1-9676-BF2678AA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FCA-CBB2-446C-B069-131533CD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A34-F8AB-4E3C-B485-4DD9442C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193-62BD-483A-8995-1DC723EC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97AC-21C8-45B4-A81A-257829F6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17B-FC75-4D21-8169-FF6E690F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3580-2D22-4CEB-BE56-52E67A22198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0B0D-848D-467D-B81F-C4ED2D5EF12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unhome.ru/modules.php/name/Fortunetelling/pa/list_pag/cid/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-1260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66"/>
                </a:solidFill>
                <a:latin typeface="Tahoma"/>
              </a:rPr>
              <a:t>Презентация на тему: ШАМАНИЗ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09720" y="3060720"/>
            <a:ext cx="300024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993366"/>
                </a:solidFill>
                <a:latin typeface="Tahoma"/>
              </a:rPr>
              <a:t>Выполнила ученица 8 «а» класса Шляпникова Валерия. Проверил учитель по Религии России – Урезков Дмитрий Геннадьевич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2749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Tahoma"/>
              </a:rPr>
              <a:t>Что такое шаманизм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3364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Вероятно, самая древняя система целительства в мире. Шаманизм особенно широко распространен в племенных культурах, которые, развиваясь на значительных удалениях друг от друга, создали системы поверий, поразительно схожие между собой. Шаманом называется человек, который, погружаясь в особое исступленное состояние сознания, обретает способность общаться с оберегающими и помогающими духами и черпать из потусторонних источников значительную силу. Главной целью шаманизма является лечение тела и рассудка. Его используют также для </a:t>
            </a:r>
            <a:r>
              <a:rPr b="0" lang="en-US" sz="1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гадания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 и для обеспечения хорошей охоты и процветания племени или деревни.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Шаманизм представляет собой сложное явление, и его часто ошибочно приравнивают к магии, волшебству и колдовству. Способность впадать в экстатический транс, связываться с духами, исцелять или предсказывать будущее еще не делает человека шаманом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4390920" cy="329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Tahoma"/>
              </a:rPr>
              <a:t>Шаманы и дух-хранител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4662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Шаманами обычно становятся мужчины, хотя и женщины также могут это, и некоторые из них достигают огромного могущества. В некоторых культурах выбор шамана возлагается на духов. Предполагаемый шаман узнает о своем избрании по некоему овеществленному знаку, например, серьезной болезни, от которой он едва не умирает, но излечивается благодаря своей силе. В других культурах человека, обладающего задатками шамана, выделяют в ранней молодости, обучают, а затем проводят через обряд посвящения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Источником силы шамана становится его дух-хранитель. Его называют также "животным силы", "духом-опекуном" , "животным-тотемом" или "домовым". Обычно шаман бдит ночью на открытом воздухе, ожидая духа-хранителя. Дух-хранитель появляется, как правило, в виде животного, птицы, рыбы или пресмыкающегося, но может принять и образ человека. Встреча с ним и благодетельна, и благотворна, она открывает шаману доступ к любому могуществу. Шаман призывает духа в свое тело, и он предохраняет его от болезней и враждебных сил из нижнего мира. Через несколько лет духа-хранителя можно поменять, если в этом возникнет необходимость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993366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5135400" y="1628640"/>
            <a:ext cx="3278520" cy="436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98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Tahoma"/>
              </a:rPr>
              <a:t>Исцелени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419436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После обретения духа-хранителя можно заняться исцелением и прорицанием. Техника исцеления различна. Шаман может собрать духов-помощников, которые являются и причиной болезни, и средством от нее. Они воплощаются в растения, насекомых, червей и прочую мелкоту. В трансе шаман видит причину болезни, после этого он кладет один из предметов в заднюю часть ротовой полости, а другой - в переднюю. Затем он начинает высасывать болезнь из тела пациента. Энергия, вызвавшая болезнь, поглощается духами-помощниками, находящимися во рту шамана и защищающими его от проникновения болезни внутрь его собственного тела. Дух, помещенный глубже, выполняет роль страховки на случай, если первый дух пропустит болезнь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9933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932360" y="1341360"/>
            <a:ext cx="3368520" cy="5046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66"/>
                </a:solidFill>
                <a:latin typeface="Tahoma"/>
              </a:rPr>
              <a:t>Спасибо за просмотр))))))**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2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7:11:19Z</dcterms:created>
  <dc:creator>Admin</dc:creator>
  <dc:description/>
  <dc:language>en-US</dc:language>
  <cp:lastModifiedBy>ученик 3</cp:lastModifiedBy>
  <dcterms:modified xsi:type="dcterms:W3CDTF">2009-11-19T09:35:23Z</dcterms:modified>
  <cp:revision>3</cp:revision>
  <dc:subject/>
  <dc:title>Презентация на тему: ШАМАНИЗМ</dc:title>
</cp:coreProperties>
</file>