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90F7E-A491-43DC-9E83-590BD668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76E7F-8D86-4821-80D8-632C884B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827CB-434C-4CC9-86FE-99587392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416C6-7247-4873-AF57-62103D89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B84E-5AAD-4170-80EF-FE6204F01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9D67-13A1-45C8-9492-CF0EDEDE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2BF0-B9F9-47D6-8E8E-956EC377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0362-7E91-49CD-8D8B-327D1521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008E-FE1F-4A5A-8798-463BE9C7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7BCE-87EF-484D-9680-7310C188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BD88-651A-43BC-B996-AA083F505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06256-4852-4C43-AAC7-1C37031C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09D6-0A93-41C4-B5E1-93A132EF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DCFD-20AD-46FC-9888-B02D4E28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798D-C39D-45FC-AD96-1BBEF752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E62B-CEEC-46AF-875F-DDC780EB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B49B-2697-4981-86BF-4C21CF64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F76F9-54DB-49B8-821E-642E1E2B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D4ADE-E2FD-477A-871A-C1E7BC42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DAC18-6A6D-445E-8057-22CEA1F4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C82F7-62FA-4ED8-979B-52885A83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CA41E-6B90-4FC4-9790-20449B84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BE74-BE86-4E3C-AF33-9C4F295E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8B070-288A-4251-8B3E-624B02AC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18DB-7A13-4EA8-8752-CA3F738736F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E1B9-3894-475A-ACA2-4A952F82E64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Уильям Шекспир</a:t>
            </a:r>
            <a:br>
              <a:rPr sz="4800"/>
            </a:b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(1564-15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изнь и творчеств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1623960" cy="1828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3200400"/>
            <a:ext cx="1828800" cy="2590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Родился в семье ремесленника и торговца Джона Шекспира. Стратфорд-он-Эйвон  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2819160" cy="207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2666880" cy="20163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Главные даты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64. 23 апреля. Родился Вильям Шекспи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76. Столяр Джеймс Бербедж (отец знаменитого актера Ричарда Бербёджа) строит первый в Лондоне теат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78. Первые данные о начавшемся разорении Джона Шекспира, отца драматург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62 Женитьба Шекспир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86. В этом году (предположительно) Шекспир переезжает из Стрэтфорда в Лондон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90 (предположительно) Шекспир начинает литературную деятельность в театре. Его знакомство с Саутгзмптон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">
    <p:push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92. Первое упоминание о Шекспире в печати (в "Исповеди" драматурга Роберта Грина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94. Первое дошедшее до нас упоминание о принадлежности Шекспира к труппе "Слуги Лорда-Камергера"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96. Шекспир получает дворянств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97. Шекспир покупает один из лучших домов в Стрэтфорд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599. Построен театр "Глобус", одним из пайщиков которого является Шекспир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601. Заговор Эссекса. Смерть Джона Шекспира, отца драматург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">
    <p:push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03. Труппа, к которой принадлежит Шекспир, получает название "Слуг короля"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08. "Слуги короля" приобретают для зимних спектаклей "закрытый" театр Блэкфрайерс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12 (предположительно). Шекспир переселяется из Лондона в Стрэтфорд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16. 25 марта. Шекспир подписал свое завещание. 23 апреля. Смерть Шекспир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623. Издание первого собрания пьес Шекспира, так называемого "Первого Фолио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3000">
    <p:push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8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90,-14,-2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Шекспир великий писатель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Шекспир писал очень много произведений  например : Ромео и Джульетта, Юлий Цезарь, Гамлет, Отелло, Макбет, Антоний и Клеопа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ра, Перикл, Буря 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. д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i" descr=""/>
          <p:cNvPicPr/>
          <p:nvPr/>
        </p:nvPicPr>
        <p:blipFill>
          <a:blip r:embed="rId1"/>
          <a:stretch/>
        </p:blipFill>
        <p:spPr>
          <a:xfrm>
            <a:off x="0" y="8286840"/>
            <a:ext cx="981000" cy="1333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40" y="11419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10ea7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0" y="238032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10ea7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0" y="391356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10ea7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40" y="536148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10ea7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7240" y="74664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10ea7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0" y="805716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10ea7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0" y="9619200"/>
            <a:ext cx="21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110ea7"/>
                </a:solidFill>
                <a:latin typeface="Arial"/>
                <a:ea typeface="Times New Roman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800600" y="1828800"/>
          <a:ext cx="1833480" cy="2133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1828800"/>
                    <a:ext cx="183348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6781680" y="2971800"/>
            <a:ext cx="1559160" cy="19810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push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№2</cp:lastModifiedBy>
  <dcterms:modified xsi:type="dcterms:W3CDTF">2009-11-23T16:39:4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