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1EFA-6876-468F-8868-1E842EB0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B49-9914-420E-8705-16FA2483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3AB-39BD-44B2-82ED-B1F4BC78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8721-FB72-4479-8C32-D3AC0076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35B00-AF07-4EC1-9235-A7FB9783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37452-248D-4371-82B4-79F8B81C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AACC8-952A-4CE3-8E14-BD16A9CA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E3B5F-E100-4BF8-8B14-68FF7391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0D865-E5EB-440C-B9E5-9A7A1D1D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2CD77-74CF-4A82-9BFB-45A40AB3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C27D2-EAD9-4144-BE27-410044B7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B05-60A4-4237-AB74-7EB55929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9DE91-1AFE-431E-BB0A-156020D5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52E4C-6AAB-4B7D-B0E7-EB93BFEC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DAF3B-4C36-4F6B-94EB-EB35EDC3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342F4-88F3-4C64-9B2C-BE23FF78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7E45B-55A2-4BE1-B9A3-992A3960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F943-E040-4ECE-82FB-A69E61DB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67CD-AAA3-409C-8CF7-28B91291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995-9176-4764-8EA1-85B49093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F20-60A2-4C8F-9C35-666635B6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4219-6060-4471-8E92-AF32BFE5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7E04-609D-471A-AD5C-CAEAD0E6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6E3E-C226-401A-9F27-8E48FD05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893B-E3C0-478E-949B-6FE71A5806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B08B-7706-4DBC-ABD9-42B0132440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3e3ff"/>
                </a:solidFill>
                <a:latin typeface="Arial"/>
              </a:rPr>
              <a:t>Вопросы здоровья в школьном курсе истории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826920" y="2781000"/>
            <a:ext cx="7632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9900"/>
                </a:solidFill>
                <a:latin typeface="Arial"/>
              </a:rPr>
              <a:t>Интеграция курса программы </a:t>
            </a:r>
            <a:r>
              <a:rPr b="0" i="1" lang="en-US" sz="3200" spc="-1" strike="noStrike">
                <a:solidFill>
                  <a:srgbClr val="ff66cc"/>
                </a:solidFill>
                <a:latin typeface="Arial"/>
              </a:rPr>
              <a:t>«Здоровье»</a:t>
            </a:r>
            <a:r>
              <a:rPr b="0" i="1" lang="en-US" sz="3200" spc="-1" strike="noStrike">
                <a:solidFill>
                  <a:srgbClr val="cc9900"/>
                </a:solidFill>
                <a:latin typeface="Arial"/>
              </a:rPr>
              <a:t> в уроки истории для учащихся 5-9 кла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cc"/>
                </a:solidFill>
                <a:latin typeface="Arial"/>
              </a:rPr>
              <a:t>Желаю Вам приятного просмотр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Вот они, переносчики заболеваний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1741320" cy="15066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408720" y="765000"/>
            <a:ext cx="2735280" cy="2171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rcRect l="9990" t="25173" r="32559" b="3854"/>
          <a:stretch/>
        </p:blipFill>
        <p:spPr>
          <a:xfrm>
            <a:off x="2556000" y="2205000"/>
            <a:ext cx="3097080" cy="2664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6516720" y="3068640"/>
            <a:ext cx="2020680" cy="30686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250920" y="3645000"/>
            <a:ext cx="1770120" cy="166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500"/>
                            </p:stCondLst>
                            <p:childTnLst>
                              <p:par>
                                <p:cTn id="2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Ход урока 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(продолжение)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341360"/>
          <a:ext cx="8435880" cy="4679640"/>
        </p:xfrm>
        <a:graphic>
          <a:graphicData uri="http://schemas.openxmlformats.org/drawingml/2006/table">
            <a:tbl>
              <a:tblPr/>
              <a:tblGrid>
                <a:gridCol w="4218120"/>
                <a:gridCol w="4217760"/>
              </a:tblGrid>
              <a:tr h="23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тработка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личной стратегии защиты от инфекционных заболев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пражнение </a:t>
                      </a: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«Фантазёр»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Учащимся предлагается представить себя жителями средневекового города, но обладающими </a:t>
                      </a: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современными знаниями об инфекционных заболеваниях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Что бы они предприняли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бщение полученных знаний и опы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становка проблемного вопроса: </a:t>
                      </a: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«Что необходимо делать современным горожанам, чтобы предотвратить эпидемии инфекционных заболеваний»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340000" y="2060640"/>
            <a:ext cx="2016000" cy="1562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763640" y="4221000"/>
            <a:ext cx="175572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Ход урока 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(окончание)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600200"/>
          <a:ext cx="8362800" cy="3989520"/>
        </p:xfrm>
        <a:graphic>
          <a:graphicData uri="http://schemas.openxmlformats.org/drawingml/2006/table">
            <a:tbl>
              <a:tblPr/>
              <a:tblGrid>
                <a:gridCol w="4181400"/>
                <a:gridCol w="4181400"/>
              </a:tblGrid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Домашнее зад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Проверка по итог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судить с членами семьи,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кие меры профилактики инфекционных заболеваний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используются в семье. Насколько они эффективны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о ли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едставление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о тесной взаимосвязи чистоты и профилактики инфекционных заболеваний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о ли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ремление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 поддержанию чистоты и порядка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ы ли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авыки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блюдения гигиенических правил и санитарных норм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87280" y="3500280"/>
            <a:ext cx="2664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7000"/>
                            </p:stCondLst>
                            <p:childTnLst>
                              <p:par>
                                <p:cTn id="3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34136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cc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Будьте здоровы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бота о здоровье ребёнка – это не просто соблюдение целого комплекса санитарно-гигиенических норм, требований к режиму, питанию, труду и учёбе. Это – прежде всего забота о гармоничном развитии человека, духовных и физических ресурсах. Поэтому, 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основная цель данной программы – показать учащимся необходимость заботы о своём здоровье на исторических примерах, опыте, накопленном людьми тысячелетиями, и достижениях человеческой цивилизации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История насыщена войнами, эпидемиями, конфликтами и иными деструктивными воздействиями на здоровье человека. Однако прогресс и развитие цивилизации позволяют нам задуматься не только над борьбой за существование человека, но и над гармоничным развитием его как личности. Поэтому задача учителя – на позитивных исторических примерах показать ценность здоровья лич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Разделы программ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Самопозн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Я и друг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Гигиенические правила и предупреждение инфекционных заболева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Питание и здоров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Основы личной безопасности и профилактика травмат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Культура потребления медицинских услу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Предупреждение употребления психоактив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Структура ур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Обсуждение предыдущего домашнего задания </a:t>
            </a:r>
            <a:r>
              <a:rPr b="0" i="1" lang="en-US" sz="2400" spc="-1" strike="noStrike">
                <a:solidFill>
                  <a:srgbClr val="ff66cc"/>
                </a:solidFill>
                <a:latin typeface="Arial"/>
              </a:rPr>
              <a:t>(основная цель – расширение коммуникативных способностей ребёнка и углубление межличностного контакта с родителям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Актуализация имеющихся представлений по теме у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Проблемное зад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Закрепление убеждений учащихся и отработка личной стратегии по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Подведение итогов и интеграция полученного опы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950"/>
                            </p:stCondLst>
                            <p:childTnLst>
                              <p:par>
                                <p:cTn id="9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650"/>
                            </p:stCondLst>
                            <p:childTnLst>
                              <p:par>
                                <p:cTn id="10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1950"/>
                            </p:stCondLst>
                            <p:childTnLst>
                              <p:par>
                                <p:cTn id="10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5 класс</a:t>
            </a:r>
            <a:br>
              <a:rPr sz="4000"/>
            </a:b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К разделу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Основы личной безопасности и профилактика травматизма</a:t>
            </a:r>
            <a:br>
              <a:rPr sz="2000"/>
            </a:b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Тема урока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ткрытие цивилизации Древнего Егип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Цель урока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формировать понимание опасности, исходящей от неизвестных предметов и веще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3213000"/>
          <a:ext cx="8424720" cy="290844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Представ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ть </a:t>
                      </a:r>
                      <a:r>
                        <a:rPr b="0" i="1" lang="en-US" sz="18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представления о многообразии и опасности отравляющих веще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Отнош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ть </a:t>
                      </a:r>
                      <a:r>
                        <a:rPr b="0" i="1" lang="en-US" sz="18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убеждение, что незнакомые предметы и вещества могут представлять опас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Стратегия повед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ть </a:t>
                      </a:r>
                      <a:r>
                        <a:rPr b="0" i="1" lang="en-US" sz="1800" spc="-1" strike="noStrike">
                          <a:solidFill>
                            <a:srgbClr val="cc9900"/>
                          </a:solidFill>
                          <a:latin typeface="Arial"/>
                        </a:rPr>
                        <a:t>стремление избегать контакта с незнакомыми предметами и вещества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68360" y="2708280"/>
          <a:ext cx="8424720" cy="51768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ни усво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Ход ур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341360"/>
          <a:ext cx="8229600" cy="5182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Содержание уро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Методы изуч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ктуализация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представлений учащихся о древнеегипетской цивилиз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Вопросы: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С чем у вас ассоциируется Египет? Как по-вашему, египтяне пытались защитить гробницы от грабителей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ормирование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ставлений учащихся о многообразии ядов и отравляющих веществ, используемых в древ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Рассказ о проклятии Тутанхамона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Как вы считаете, какие меры должны были принять археологи, чтобы не заболеть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тработка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личной стратегии пове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асс делится на группы. Каждой группа должна придумать рассказ на заданную тему. Например: </a:t>
                      </a:r>
                      <a:r>
                        <a:rPr b="0" lang="en-US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«Во время прогулки дети нашли контейнер с каким-то веществом…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Ход урока 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(продолжение)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291520" cy="4548240"/>
        </p:xfrm>
        <a:graphic>
          <a:graphicData uri="http://schemas.openxmlformats.org/drawingml/2006/table">
            <a:tbl>
              <a:tblPr/>
              <a:tblGrid>
                <a:gridCol w="3898800"/>
                <a:gridCol w="4392720"/>
              </a:tblGrid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общение полученных зн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кончить предложение: </a:t>
                      </a: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«Если я найду неизвестное вещество…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Домашнее зад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Проверка по итог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5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узнать у родителей, что они знают </a:t>
                      </a: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об утилизации ядерных отходов и отравляющих веществ в нашей стра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о ли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едставление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об опасности и многообразии отравляющих веществ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о ли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беждение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что любое незнакомое вещество или предмет могут представлять опасность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но ли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ремление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бегать контакта с незнакомыми предметами и веществами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547640" y="4365720"/>
            <a:ext cx="2664000" cy="1665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3e3ff"/>
                </a:solidFill>
                <a:latin typeface="Arial"/>
              </a:rPr>
              <a:t>6 класс</a:t>
            </a:r>
            <a:br>
              <a:rPr sz="4000"/>
            </a:br>
            <a:r>
              <a:rPr b="0" lang="en-US" sz="2000" spc="-1" strike="noStrike">
                <a:solidFill>
                  <a:srgbClr val="e3e3ff"/>
                </a:solidFill>
                <a:latin typeface="Arial"/>
              </a:rPr>
              <a:t>К разделу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Гигиенические правила и профилактика инфекционных заболеваний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Тема урока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Средневековый город и горожа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Цель урока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формировать убеждения учащихся в необходимости соблюдения правил личной гигиены с целью предотвращения инфекционных заболев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11280" y="3068640"/>
          <a:ext cx="8208000" cy="517320"/>
        </p:xfrm>
        <a:graphic>
          <a:graphicData uri="http://schemas.openxmlformats.org/drawingml/2006/table">
            <a:tbl>
              <a:tblPr/>
              <a:tblGrid>
                <a:gridCol w="8208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вни усво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11280" y="3573360"/>
          <a:ext cx="8208720" cy="2786040"/>
        </p:xfrm>
        <a:graphic>
          <a:graphicData uri="http://schemas.openxmlformats.org/drawingml/2006/table">
            <a:tbl>
              <a:tblPr/>
              <a:tblGrid>
                <a:gridCol w="4141800"/>
                <a:gridCol w="4066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Представ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ть </a:t>
                      </a:r>
                      <a:r>
                        <a:rPr b="0" i="1" lang="en-US" sz="1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представления о тесной взаимосвязи чистоты и профилактики инфекционных заболев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Отнош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ть </a:t>
                      </a:r>
                      <a:r>
                        <a:rPr b="0" i="1" lang="en-US" sz="1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стремление к поддержанию чистоты и поряд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66cc"/>
                          </a:solidFill>
                          <a:latin typeface="Arial"/>
                        </a:rPr>
                        <a:t>Стратегия повед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ировать </a:t>
                      </a:r>
                      <a:r>
                        <a:rPr b="0" i="1" lang="en-US" sz="1800" spc="-1" strike="noStrike">
                          <a:solidFill>
                            <a:srgbClr val="ff9966"/>
                          </a:solidFill>
                          <a:latin typeface="Arial"/>
                        </a:rPr>
                        <a:t>навыки соблюдения гигиенических правил и санитарных нор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1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3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998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498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998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498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Ход ур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600200"/>
          <a:ext cx="8229600" cy="4492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Содержание уро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Методы изучен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ктуализация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представлений учащихся о причинах и распространении инфекционных заболева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Учитель демонстрирует изображение грызуна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крыса), </a:t>
                      </a: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насекомого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муха, вошь, малярийный комар), </a:t>
                      </a: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животного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лиса, собака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Какие заболевания могут переносить эти животные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 (чума, тиф, малярия, бешенство, глисты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Формирование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ставлений учащихся о жизни в средневековом городе и распространении инфекционных заболеваний (чумы и др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Сюжетный рассказ учителя о распространении «чёрной смерти» в Европе и её причина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17:54Z</dcterms:created>
  <dc:creator>Дмитрий</dc:creator>
  <dc:description/>
  <dc:language>en-US</dc:language>
  <cp:lastModifiedBy>Дмитрий</cp:lastModifiedBy>
  <dcterms:modified xsi:type="dcterms:W3CDTF">2005-03-07T21:27:49Z</dcterms:modified>
  <cp:revision>7</cp:revision>
  <dc:subject/>
  <dc:title>Вопросы здоровья в школьном курсе истории</dc:title>
</cp:coreProperties>
</file>